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5124113" cy="10691813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1088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digipot.net/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268600" y="68400"/>
            <a:ext cx="709560" cy="3823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5320" y="10479240"/>
            <a:ext cx="287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pyright©2011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igipot.net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All rights reserved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504720" y="1025640"/>
            <a:ext cx="14328720" cy="9217080"/>
          </a:xfrm>
          <a:custGeom>
            <a:avLst/>
            <a:gdLst/>
            <a:ahLst/>
            <a:rect l="l" t="t" r="r" b="b"/>
            <a:pathLst>
              <a:path w="9026" h="5806">
                <a:moveTo>
                  <a:pt x="0" y="5716"/>
                </a:moveTo>
                <a:lnTo>
                  <a:pt x="0" y="5806"/>
                </a:lnTo>
                <a:lnTo>
                  <a:pt x="9026" y="5806"/>
                </a:lnTo>
                <a:lnTo>
                  <a:pt x="9026" y="0"/>
                </a:lnTo>
                <a:lnTo>
                  <a:pt x="8936" y="0"/>
                </a:lnTo>
                <a:lnTo>
                  <a:pt x="8936" y="5716"/>
                </a:lnTo>
                <a:lnTo>
                  <a:pt x="0" y="571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431640" y="1170000"/>
            <a:ext cx="2016360" cy="8929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431640" y="880920"/>
            <a:ext cx="14257440" cy="9218880"/>
            <a:chOff x="431640" y="880920"/>
            <a:chExt cx="14257440" cy="9218880"/>
          </a:xfrm>
        </p:grpSpPr>
        <p:sp>
          <p:nvSpPr>
            <p:cNvPr id="41" name=""/>
            <p:cNvSpPr/>
            <p:nvPr/>
          </p:nvSpPr>
          <p:spPr>
            <a:xfrm>
              <a:off x="431640" y="1165320"/>
              <a:ext cx="2016360" cy="8934120"/>
            </a:xfrm>
            <a:prstGeom prst="rect">
              <a:avLst/>
            </a:prstGeom>
            <a:noFill/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" name=""/>
            <p:cNvGrpSpPr/>
            <p:nvPr/>
          </p:nvGrpSpPr>
          <p:grpSpPr>
            <a:xfrm>
              <a:off x="2448000" y="880920"/>
              <a:ext cx="12240000" cy="9218520"/>
              <a:chOff x="2448000" y="880920"/>
              <a:chExt cx="12240000" cy="921852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2449800" y="1165320"/>
                <a:ext cx="12238200" cy="8934120"/>
                <a:chOff x="2449800" y="1165320"/>
                <a:chExt cx="12238200" cy="8934120"/>
              </a:xfrm>
            </p:grpSpPr>
            <p:sp>
              <p:nvSpPr>
                <p:cNvPr id="44" name=""/>
                <p:cNvSpPr/>
                <p:nvPr/>
              </p:nvSpPr>
              <p:spPr>
                <a:xfrm>
                  <a:off x="2449800" y="1165320"/>
                  <a:ext cx="1020960" cy="8934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295920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3333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270432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321588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3470760" y="1165320"/>
                  <a:ext cx="1020960" cy="8934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98016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3333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372564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423720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488120" y="1165320"/>
                  <a:ext cx="1021320" cy="8934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499788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3333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474300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525456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5509800" y="1165320"/>
                  <a:ext cx="1020960" cy="8934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601920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3333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576432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627588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6530760" y="1165320"/>
                  <a:ext cx="1020960" cy="8934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04016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3333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678564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729756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7548480" y="1165320"/>
                  <a:ext cx="1020960" cy="8934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05824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3333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780300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831492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8567640" y="1165320"/>
                  <a:ext cx="1021320" cy="8934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07740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3333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882252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933408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589320" y="1165320"/>
                  <a:ext cx="1020960" cy="8934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1009872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3333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984384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035540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10606320" y="1165320"/>
                  <a:ext cx="1020960" cy="8934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111644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3333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1086156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1137312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11627640" y="1165320"/>
                  <a:ext cx="1021320" cy="8934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1213740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3333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1188252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1239408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12649320" y="1165320"/>
                  <a:ext cx="1020960" cy="8934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1315872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3333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1290420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1341540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13666680" y="1165320"/>
                  <a:ext cx="1021320" cy="8934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1417644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3333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1392156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1443312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" name=""/>
              <p:cNvSpPr/>
              <p:nvPr/>
            </p:nvSpPr>
            <p:spPr>
              <a:xfrm>
                <a:off x="2448000" y="880920"/>
                <a:ext cx="1019160" cy="28440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74920"/>
                    <a:tab algn="l" pos="2949480"/>
                    <a:tab algn="l" pos="4424400"/>
                    <a:tab algn="l" pos="5899320"/>
                    <a:tab algn="l" pos="7373880"/>
                    <a:tab algn="l" pos="8848800"/>
                    <a:tab algn="l" pos="1032336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2011/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467160" y="880920"/>
                <a:ext cx="1019160" cy="28440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74920"/>
                    <a:tab algn="l" pos="2949480"/>
                    <a:tab algn="l" pos="4424400"/>
                    <a:tab algn="l" pos="5899320"/>
                    <a:tab algn="l" pos="7373880"/>
                    <a:tab algn="l" pos="8848800"/>
                    <a:tab algn="l" pos="1032336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88480" y="880920"/>
                <a:ext cx="1019160" cy="28440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74920"/>
                    <a:tab algn="l" pos="2949480"/>
                    <a:tab algn="l" pos="4424400"/>
                    <a:tab algn="l" pos="5899320"/>
                    <a:tab algn="l" pos="7373880"/>
                    <a:tab algn="l" pos="8848800"/>
                    <a:tab algn="l" pos="1032336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508000" y="880920"/>
                <a:ext cx="1019160" cy="28440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74920"/>
                    <a:tab algn="l" pos="2949480"/>
                    <a:tab algn="l" pos="4424400"/>
                    <a:tab algn="l" pos="5899320"/>
                    <a:tab algn="l" pos="7373880"/>
                    <a:tab algn="l" pos="8848800"/>
                    <a:tab algn="l" pos="1032336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529680" y="880920"/>
                <a:ext cx="1019160" cy="28440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74920"/>
                    <a:tab algn="l" pos="2949480"/>
                    <a:tab algn="l" pos="4424400"/>
                    <a:tab algn="l" pos="5899320"/>
                    <a:tab algn="l" pos="7373880"/>
                    <a:tab algn="l" pos="8848800"/>
                    <a:tab algn="l" pos="1032336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549200" y="880920"/>
                <a:ext cx="1018800" cy="28440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74920"/>
                    <a:tab algn="l" pos="2949480"/>
                    <a:tab algn="l" pos="4424400"/>
                    <a:tab algn="l" pos="5899320"/>
                    <a:tab algn="l" pos="7373880"/>
                    <a:tab algn="l" pos="8848800"/>
                    <a:tab algn="l" pos="1032336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570160" y="880920"/>
                <a:ext cx="1019160" cy="28440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74920"/>
                    <a:tab algn="l" pos="2949480"/>
                    <a:tab algn="l" pos="4424400"/>
                    <a:tab algn="l" pos="5899320"/>
                    <a:tab algn="l" pos="7373880"/>
                    <a:tab algn="l" pos="8848800"/>
                    <a:tab algn="l" pos="1032336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9589680" y="880920"/>
                <a:ext cx="1019160" cy="28440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74920"/>
                    <a:tab algn="l" pos="2949480"/>
                    <a:tab algn="l" pos="4424400"/>
                    <a:tab algn="l" pos="5899320"/>
                    <a:tab algn="l" pos="7373880"/>
                    <a:tab algn="l" pos="8848800"/>
                    <a:tab algn="l" pos="1032336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0607040" y="880920"/>
                <a:ext cx="1019160" cy="28440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74920"/>
                    <a:tab algn="l" pos="2949480"/>
                    <a:tab algn="l" pos="4424400"/>
                    <a:tab algn="l" pos="5899320"/>
                    <a:tab algn="l" pos="7373880"/>
                    <a:tab algn="l" pos="8848800"/>
                    <a:tab algn="l" pos="1032336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1626560" y="880920"/>
                <a:ext cx="1019160" cy="28440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74920"/>
                    <a:tab algn="l" pos="2949480"/>
                    <a:tab algn="l" pos="4424400"/>
                    <a:tab algn="l" pos="5899320"/>
                    <a:tab algn="l" pos="7373880"/>
                    <a:tab algn="l" pos="8848800"/>
                    <a:tab algn="l" pos="1032336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2647880" y="880920"/>
                <a:ext cx="1019160" cy="28440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74920"/>
                    <a:tab algn="l" pos="2949480"/>
                    <a:tab algn="l" pos="4424400"/>
                    <a:tab algn="l" pos="5899320"/>
                    <a:tab algn="l" pos="7373880"/>
                    <a:tab algn="l" pos="8848800"/>
                    <a:tab algn="l" pos="1032336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3667400" y="880920"/>
                <a:ext cx="1019160" cy="28440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74920"/>
                    <a:tab algn="l" pos="2949480"/>
                    <a:tab algn="l" pos="4424400"/>
                    <a:tab algn="l" pos="5899320"/>
                    <a:tab algn="l" pos="7373880"/>
                    <a:tab algn="l" pos="8848800"/>
                    <a:tab algn="l" pos="1032336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2448000" y="880920"/>
              <a:ext cx="12241080" cy="9218880"/>
            </a:xfrm>
            <a:prstGeom prst="rect">
              <a:avLst/>
            </a:prstGeom>
            <a:noFill/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31640" y="1170000"/>
            <a:ext cx="14259240" cy="8929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48000" y="882720"/>
            <a:ext cx="12242880" cy="9217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04720" y="1025640"/>
            <a:ext cx="14328720" cy="9217080"/>
          </a:xfrm>
          <a:custGeom>
            <a:avLst/>
            <a:gdLst/>
            <a:ahLst/>
            <a:rect l="l" t="t" r="r" b="b"/>
            <a:pathLst>
              <a:path w="9026" h="5806">
                <a:moveTo>
                  <a:pt x="0" y="5716"/>
                </a:moveTo>
                <a:lnTo>
                  <a:pt x="0" y="5806"/>
                </a:lnTo>
                <a:lnTo>
                  <a:pt x="9026" y="5806"/>
                </a:lnTo>
                <a:lnTo>
                  <a:pt x="9026" y="0"/>
                </a:lnTo>
                <a:lnTo>
                  <a:pt x="8936" y="0"/>
                </a:lnTo>
                <a:lnTo>
                  <a:pt x="8936" y="5716"/>
                </a:lnTo>
                <a:lnTo>
                  <a:pt x="0" y="571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1640" y="1170000"/>
            <a:ext cx="2016360" cy="44640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31640" y="5634000"/>
            <a:ext cx="2016360" cy="4467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31640" y="880920"/>
            <a:ext cx="14257440" cy="9218880"/>
            <a:chOff x="431640" y="880920"/>
            <a:chExt cx="14257440" cy="9218880"/>
          </a:xfrm>
        </p:grpSpPr>
        <p:sp>
          <p:nvSpPr>
            <p:cNvPr id="111" name=""/>
            <p:cNvSpPr/>
            <p:nvPr/>
          </p:nvSpPr>
          <p:spPr>
            <a:xfrm>
              <a:off x="431640" y="1165320"/>
              <a:ext cx="2016360" cy="8934120"/>
            </a:xfrm>
            <a:prstGeom prst="rect">
              <a:avLst/>
            </a:prstGeom>
            <a:noFill/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2448000" y="880920"/>
              <a:ext cx="12240000" cy="9218520"/>
              <a:chOff x="2448000" y="880920"/>
              <a:chExt cx="12240000" cy="92185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2449800" y="1165320"/>
                <a:ext cx="12238200" cy="8934120"/>
                <a:chOff x="2449800" y="1165320"/>
                <a:chExt cx="12238200" cy="893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2449800" y="1165320"/>
                  <a:ext cx="1020960" cy="8934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95920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3333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70432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21588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3470760" y="1165320"/>
                  <a:ext cx="1020960" cy="8934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98016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3333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372564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23720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488120" y="1165320"/>
                  <a:ext cx="1021320" cy="8934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499788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3333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474300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25456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5509800" y="1165320"/>
                  <a:ext cx="1020960" cy="8934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601920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3333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576432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27588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530760" y="1165320"/>
                  <a:ext cx="1020960" cy="8934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704016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3333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678564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29756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548480" y="1165320"/>
                  <a:ext cx="1020960" cy="8934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805824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3333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780300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831492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8567640" y="1165320"/>
                  <a:ext cx="1021320" cy="8934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907740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3333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882252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933408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9589320" y="1165320"/>
                  <a:ext cx="1020960" cy="8934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009872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3333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984384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035540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0606320" y="1165320"/>
                  <a:ext cx="1020960" cy="8934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111644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3333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086156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137312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1627640" y="1165320"/>
                  <a:ext cx="1021320" cy="8934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213740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3333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188252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239408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2649320" y="1165320"/>
                  <a:ext cx="1020960" cy="8934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315872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3333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290420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41540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666680" y="1165320"/>
                  <a:ext cx="1021320" cy="8934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1417644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3333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392156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443312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"/>
              <p:cNvSpPr/>
              <p:nvPr/>
            </p:nvSpPr>
            <p:spPr>
              <a:xfrm>
                <a:off x="2448000" y="880920"/>
                <a:ext cx="1019160" cy="28440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74920"/>
                    <a:tab algn="l" pos="2949480"/>
                    <a:tab algn="l" pos="4424400"/>
                    <a:tab algn="l" pos="5899320"/>
                    <a:tab algn="l" pos="7373880"/>
                    <a:tab algn="l" pos="8848800"/>
                    <a:tab algn="l" pos="1032336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2011/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467160" y="880920"/>
                <a:ext cx="1019160" cy="28440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74920"/>
                    <a:tab algn="l" pos="2949480"/>
                    <a:tab algn="l" pos="4424400"/>
                    <a:tab algn="l" pos="5899320"/>
                    <a:tab algn="l" pos="7373880"/>
                    <a:tab algn="l" pos="8848800"/>
                    <a:tab algn="l" pos="1032336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488480" y="880920"/>
                <a:ext cx="1019160" cy="28440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74920"/>
                    <a:tab algn="l" pos="2949480"/>
                    <a:tab algn="l" pos="4424400"/>
                    <a:tab algn="l" pos="5899320"/>
                    <a:tab algn="l" pos="7373880"/>
                    <a:tab algn="l" pos="8848800"/>
                    <a:tab algn="l" pos="1032336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508000" y="880920"/>
                <a:ext cx="1019160" cy="28440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74920"/>
                    <a:tab algn="l" pos="2949480"/>
                    <a:tab algn="l" pos="4424400"/>
                    <a:tab algn="l" pos="5899320"/>
                    <a:tab algn="l" pos="7373880"/>
                    <a:tab algn="l" pos="8848800"/>
                    <a:tab algn="l" pos="1032336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529680" y="880920"/>
                <a:ext cx="1019160" cy="28440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74920"/>
                    <a:tab algn="l" pos="2949480"/>
                    <a:tab algn="l" pos="4424400"/>
                    <a:tab algn="l" pos="5899320"/>
                    <a:tab algn="l" pos="7373880"/>
                    <a:tab algn="l" pos="8848800"/>
                    <a:tab algn="l" pos="1032336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549200" y="880920"/>
                <a:ext cx="1018800" cy="28440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74920"/>
                    <a:tab algn="l" pos="2949480"/>
                    <a:tab algn="l" pos="4424400"/>
                    <a:tab algn="l" pos="5899320"/>
                    <a:tab algn="l" pos="7373880"/>
                    <a:tab algn="l" pos="8848800"/>
                    <a:tab algn="l" pos="1032336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570160" y="880920"/>
                <a:ext cx="1019160" cy="28440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74920"/>
                    <a:tab algn="l" pos="2949480"/>
                    <a:tab algn="l" pos="4424400"/>
                    <a:tab algn="l" pos="5899320"/>
                    <a:tab algn="l" pos="7373880"/>
                    <a:tab algn="l" pos="8848800"/>
                    <a:tab algn="l" pos="1032336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9589680" y="880920"/>
                <a:ext cx="1019160" cy="28440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74920"/>
                    <a:tab algn="l" pos="2949480"/>
                    <a:tab algn="l" pos="4424400"/>
                    <a:tab algn="l" pos="5899320"/>
                    <a:tab algn="l" pos="7373880"/>
                    <a:tab algn="l" pos="8848800"/>
                    <a:tab algn="l" pos="1032336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0607040" y="880920"/>
                <a:ext cx="1019160" cy="28440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74920"/>
                    <a:tab algn="l" pos="2949480"/>
                    <a:tab algn="l" pos="4424400"/>
                    <a:tab algn="l" pos="5899320"/>
                    <a:tab algn="l" pos="7373880"/>
                    <a:tab algn="l" pos="8848800"/>
                    <a:tab algn="l" pos="1032336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1626560" y="880920"/>
                <a:ext cx="1019160" cy="28440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74920"/>
                    <a:tab algn="l" pos="2949480"/>
                    <a:tab algn="l" pos="4424400"/>
                    <a:tab algn="l" pos="5899320"/>
                    <a:tab algn="l" pos="7373880"/>
                    <a:tab algn="l" pos="8848800"/>
                    <a:tab algn="l" pos="1032336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2647880" y="880920"/>
                <a:ext cx="1019160" cy="28440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74920"/>
                    <a:tab algn="l" pos="2949480"/>
                    <a:tab algn="l" pos="4424400"/>
                    <a:tab algn="l" pos="5899320"/>
                    <a:tab algn="l" pos="7373880"/>
                    <a:tab algn="l" pos="8848800"/>
                    <a:tab algn="l" pos="1032336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3667400" y="880920"/>
                <a:ext cx="1019160" cy="28440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74920"/>
                    <a:tab algn="l" pos="2949480"/>
                    <a:tab algn="l" pos="4424400"/>
                    <a:tab algn="l" pos="5899320"/>
                    <a:tab algn="l" pos="7373880"/>
                    <a:tab algn="l" pos="8848800"/>
                    <a:tab algn="l" pos="1032336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2448000" y="880920"/>
              <a:ext cx="12241080" cy="9218880"/>
            </a:xfrm>
            <a:prstGeom prst="rect">
              <a:avLst/>
            </a:prstGeom>
            <a:noFill/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431640" y="5634000"/>
            <a:ext cx="1425924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31640" y="1170000"/>
            <a:ext cx="14259240" cy="8929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48000" y="882720"/>
            <a:ext cx="12242880" cy="9217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04720" y="1025640"/>
            <a:ext cx="14328720" cy="9217080"/>
          </a:xfrm>
          <a:custGeom>
            <a:avLst/>
            <a:gdLst/>
            <a:ahLst/>
            <a:rect l="l" t="t" r="r" b="b"/>
            <a:pathLst>
              <a:path w="9026" h="5806">
                <a:moveTo>
                  <a:pt x="0" y="5716"/>
                </a:moveTo>
                <a:lnTo>
                  <a:pt x="0" y="5806"/>
                </a:lnTo>
                <a:lnTo>
                  <a:pt x="9026" y="5806"/>
                </a:lnTo>
                <a:lnTo>
                  <a:pt x="9026" y="0"/>
                </a:lnTo>
                <a:lnTo>
                  <a:pt x="8936" y="0"/>
                </a:lnTo>
                <a:lnTo>
                  <a:pt x="8936" y="5716"/>
                </a:lnTo>
                <a:lnTo>
                  <a:pt x="0" y="571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31640" y="1170000"/>
            <a:ext cx="2016360" cy="22320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1640" y="3402000"/>
            <a:ext cx="2016360" cy="2232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1640" y="5634000"/>
            <a:ext cx="2016360" cy="2232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31640" y="7867800"/>
            <a:ext cx="2016360" cy="223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31640" y="880920"/>
            <a:ext cx="14257440" cy="9218880"/>
            <a:chOff x="431640" y="880920"/>
            <a:chExt cx="14257440" cy="9218880"/>
          </a:xfrm>
        </p:grpSpPr>
        <p:sp>
          <p:nvSpPr>
            <p:cNvPr id="184" name=""/>
            <p:cNvSpPr/>
            <p:nvPr/>
          </p:nvSpPr>
          <p:spPr>
            <a:xfrm>
              <a:off x="431640" y="1165320"/>
              <a:ext cx="2016360" cy="8934120"/>
            </a:xfrm>
            <a:prstGeom prst="rect">
              <a:avLst/>
            </a:prstGeom>
            <a:noFill/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448000" y="880920"/>
              <a:ext cx="12240000" cy="9218520"/>
              <a:chOff x="2448000" y="880920"/>
              <a:chExt cx="12240000" cy="921852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2449800" y="1165320"/>
                <a:ext cx="12238200" cy="8934120"/>
                <a:chOff x="2449800" y="1165320"/>
                <a:chExt cx="12238200" cy="893412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2449800" y="1165320"/>
                  <a:ext cx="1020960" cy="8934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95920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3333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70432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321588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470760" y="1165320"/>
                  <a:ext cx="1020960" cy="8934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98016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3333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372564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23720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488120" y="1165320"/>
                  <a:ext cx="1021320" cy="8934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99788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3333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74300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25456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509800" y="1165320"/>
                  <a:ext cx="1020960" cy="8934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601920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3333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76432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627588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530760" y="1165320"/>
                  <a:ext cx="1020960" cy="8934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04016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3333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678564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29756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548480" y="1165320"/>
                  <a:ext cx="1020960" cy="8934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805824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3333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80300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31492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8567640" y="1165320"/>
                  <a:ext cx="1021320" cy="8934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907740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3333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82252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933408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9589320" y="1165320"/>
                  <a:ext cx="1020960" cy="8934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009872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3333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984384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035540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10606320" y="1165320"/>
                  <a:ext cx="1020960" cy="8934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1111644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3333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1086156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1137312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11627640" y="1165320"/>
                  <a:ext cx="1021320" cy="8934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213740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3333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1188252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1239408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2649320" y="1165320"/>
                  <a:ext cx="1020960" cy="8934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1315872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3333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1290420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1341540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13666680" y="1165320"/>
                  <a:ext cx="1021320" cy="8934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417644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3333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1392156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443312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5" name=""/>
              <p:cNvSpPr/>
              <p:nvPr/>
            </p:nvSpPr>
            <p:spPr>
              <a:xfrm>
                <a:off x="2448000" y="880920"/>
                <a:ext cx="1019160" cy="28440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74920"/>
                    <a:tab algn="l" pos="2949480"/>
                    <a:tab algn="l" pos="4424400"/>
                    <a:tab algn="l" pos="5899320"/>
                    <a:tab algn="l" pos="7373880"/>
                    <a:tab algn="l" pos="8848800"/>
                    <a:tab algn="l" pos="1032336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2011/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467160" y="880920"/>
                <a:ext cx="1019160" cy="28440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74920"/>
                    <a:tab algn="l" pos="2949480"/>
                    <a:tab algn="l" pos="4424400"/>
                    <a:tab algn="l" pos="5899320"/>
                    <a:tab algn="l" pos="7373880"/>
                    <a:tab algn="l" pos="8848800"/>
                    <a:tab algn="l" pos="1032336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488480" y="880920"/>
                <a:ext cx="1019160" cy="28440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74920"/>
                    <a:tab algn="l" pos="2949480"/>
                    <a:tab algn="l" pos="4424400"/>
                    <a:tab algn="l" pos="5899320"/>
                    <a:tab algn="l" pos="7373880"/>
                    <a:tab algn="l" pos="8848800"/>
                    <a:tab algn="l" pos="1032336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508000" y="880920"/>
                <a:ext cx="1019160" cy="28440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74920"/>
                    <a:tab algn="l" pos="2949480"/>
                    <a:tab algn="l" pos="4424400"/>
                    <a:tab algn="l" pos="5899320"/>
                    <a:tab algn="l" pos="7373880"/>
                    <a:tab algn="l" pos="8848800"/>
                    <a:tab algn="l" pos="1032336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529680" y="880920"/>
                <a:ext cx="1019160" cy="28440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74920"/>
                    <a:tab algn="l" pos="2949480"/>
                    <a:tab algn="l" pos="4424400"/>
                    <a:tab algn="l" pos="5899320"/>
                    <a:tab algn="l" pos="7373880"/>
                    <a:tab algn="l" pos="8848800"/>
                    <a:tab algn="l" pos="1032336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549200" y="880920"/>
                <a:ext cx="1018800" cy="28440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74920"/>
                    <a:tab algn="l" pos="2949480"/>
                    <a:tab algn="l" pos="4424400"/>
                    <a:tab algn="l" pos="5899320"/>
                    <a:tab algn="l" pos="7373880"/>
                    <a:tab algn="l" pos="8848800"/>
                    <a:tab algn="l" pos="1032336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570160" y="880920"/>
                <a:ext cx="1019160" cy="28440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74920"/>
                    <a:tab algn="l" pos="2949480"/>
                    <a:tab algn="l" pos="4424400"/>
                    <a:tab algn="l" pos="5899320"/>
                    <a:tab algn="l" pos="7373880"/>
                    <a:tab algn="l" pos="8848800"/>
                    <a:tab algn="l" pos="1032336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9589680" y="880920"/>
                <a:ext cx="1019160" cy="28440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74920"/>
                    <a:tab algn="l" pos="2949480"/>
                    <a:tab algn="l" pos="4424400"/>
                    <a:tab algn="l" pos="5899320"/>
                    <a:tab algn="l" pos="7373880"/>
                    <a:tab algn="l" pos="8848800"/>
                    <a:tab algn="l" pos="1032336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0607040" y="880920"/>
                <a:ext cx="1019160" cy="28440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74920"/>
                    <a:tab algn="l" pos="2949480"/>
                    <a:tab algn="l" pos="4424400"/>
                    <a:tab algn="l" pos="5899320"/>
                    <a:tab algn="l" pos="7373880"/>
                    <a:tab algn="l" pos="8848800"/>
                    <a:tab algn="l" pos="1032336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1626560" y="880920"/>
                <a:ext cx="1019160" cy="28440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74920"/>
                    <a:tab algn="l" pos="2949480"/>
                    <a:tab algn="l" pos="4424400"/>
                    <a:tab algn="l" pos="5899320"/>
                    <a:tab algn="l" pos="7373880"/>
                    <a:tab algn="l" pos="8848800"/>
                    <a:tab algn="l" pos="1032336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2647880" y="880920"/>
                <a:ext cx="1019160" cy="28440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74920"/>
                    <a:tab algn="l" pos="2949480"/>
                    <a:tab algn="l" pos="4424400"/>
                    <a:tab algn="l" pos="5899320"/>
                    <a:tab algn="l" pos="7373880"/>
                    <a:tab algn="l" pos="8848800"/>
                    <a:tab algn="l" pos="1032336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3667400" y="880920"/>
                <a:ext cx="1019160" cy="28440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74920"/>
                    <a:tab algn="l" pos="2949480"/>
                    <a:tab algn="l" pos="4424400"/>
                    <a:tab algn="l" pos="5899320"/>
                    <a:tab algn="l" pos="7373880"/>
                    <a:tab algn="l" pos="8848800"/>
                    <a:tab algn="l" pos="1032336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2448000" y="880920"/>
              <a:ext cx="12241080" cy="9218880"/>
            </a:xfrm>
            <a:prstGeom prst="rect">
              <a:avLst/>
            </a:prstGeom>
            <a:noFill/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31640" y="5634000"/>
            <a:ext cx="1425924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31640" y="3402000"/>
            <a:ext cx="1425924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1640" y="7867800"/>
            <a:ext cx="1425924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76360" y="1314360"/>
            <a:ext cx="1728720" cy="1944720"/>
          </a:xfrm>
          <a:prstGeom prst="rect">
            <a:avLst/>
          </a:prstGeom>
          <a:solidFill>
            <a:srgbClr val="ffffff"/>
          </a:solidFill>
          <a:ln w="324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6360" y="3546360"/>
            <a:ext cx="1728720" cy="1944720"/>
          </a:xfrm>
          <a:prstGeom prst="rect">
            <a:avLst/>
          </a:prstGeom>
          <a:solidFill>
            <a:srgbClr val="ffffff"/>
          </a:solidFill>
          <a:ln w="324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5778360"/>
            <a:ext cx="1728720" cy="1944720"/>
          </a:xfrm>
          <a:prstGeom prst="rect">
            <a:avLst/>
          </a:prstGeom>
          <a:solidFill>
            <a:srgbClr val="ffffff"/>
          </a:solidFill>
          <a:ln w="324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6360" y="8010360"/>
            <a:ext cx="1728720" cy="1944720"/>
          </a:xfrm>
          <a:prstGeom prst="rect">
            <a:avLst/>
          </a:prstGeom>
          <a:solidFill>
            <a:srgbClr val="ffffff"/>
          </a:solidFill>
          <a:ln w="324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504720" y="1025640"/>
            <a:ext cx="14328720" cy="9217080"/>
          </a:xfrm>
          <a:custGeom>
            <a:avLst/>
            <a:gdLst/>
            <a:ahLst/>
            <a:rect l="l" t="t" r="r" b="b"/>
            <a:pathLst>
              <a:path w="9026" h="5806">
                <a:moveTo>
                  <a:pt x="0" y="5716"/>
                </a:moveTo>
                <a:lnTo>
                  <a:pt x="0" y="5806"/>
                </a:lnTo>
                <a:lnTo>
                  <a:pt x="9026" y="5806"/>
                </a:lnTo>
                <a:lnTo>
                  <a:pt x="9026" y="0"/>
                </a:lnTo>
                <a:lnTo>
                  <a:pt x="8936" y="0"/>
                </a:lnTo>
                <a:lnTo>
                  <a:pt x="8936" y="5716"/>
                </a:lnTo>
                <a:lnTo>
                  <a:pt x="0" y="571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31640" y="1170000"/>
            <a:ext cx="2016360" cy="22320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1640" y="3402000"/>
            <a:ext cx="2016360" cy="2232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31640" y="5634000"/>
            <a:ext cx="2016360" cy="2232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31640" y="7867800"/>
            <a:ext cx="2016360" cy="223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431640" y="880920"/>
            <a:ext cx="14257440" cy="9218880"/>
            <a:chOff x="431640" y="880920"/>
            <a:chExt cx="14257440" cy="9218880"/>
          </a:xfrm>
        </p:grpSpPr>
        <p:sp>
          <p:nvSpPr>
            <p:cNvPr id="261" name=""/>
            <p:cNvSpPr/>
            <p:nvPr/>
          </p:nvSpPr>
          <p:spPr>
            <a:xfrm>
              <a:off x="431640" y="1165320"/>
              <a:ext cx="2016360" cy="8934120"/>
            </a:xfrm>
            <a:prstGeom prst="rect">
              <a:avLst/>
            </a:prstGeom>
            <a:noFill/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2448000" y="880920"/>
              <a:ext cx="12240000" cy="9218520"/>
              <a:chOff x="2448000" y="880920"/>
              <a:chExt cx="12240000" cy="9218520"/>
            </a:xfrm>
          </p:grpSpPr>
          <p:grpSp>
            <p:nvGrpSpPr>
              <p:cNvPr id="263" name=""/>
              <p:cNvGrpSpPr/>
              <p:nvPr/>
            </p:nvGrpSpPr>
            <p:grpSpPr>
              <a:xfrm>
                <a:off x="2449800" y="1165320"/>
                <a:ext cx="12238200" cy="8934120"/>
                <a:chOff x="2449800" y="1165320"/>
                <a:chExt cx="12238200" cy="893412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2449800" y="1165320"/>
                  <a:ext cx="1020960" cy="8934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95920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3333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270432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321588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470760" y="1165320"/>
                  <a:ext cx="1020960" cy="8934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98016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3333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72564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23720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488120" y="1165320"/>
                  <a:ext cx="1021320" cy="8934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499788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3333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474300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525456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509800" y="1165320"/>
                  <a:ext cx="1020960" cy="8934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601920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3333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76432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627588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6530760" y="1165320"/>
                  <a:ext cx="1020960" cy="8934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04016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3333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78564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29756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548480" y="1165320"/>
                  <a:ext cx="1020960" cy="8934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805824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3333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80300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31492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567640" y="1165320"/>
                  <a:ext cx="1021320" cy="8934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907740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3333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882252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933408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9589320" y="1165320"/>
                  <a:ext cx="1020960" cy="8934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009872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3333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984384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035540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10606320" y="1165320"/>
                  <a:ext cx="1020960" cy="8934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111644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3333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1086156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1137312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11627640" y="1165320"/>
                  <a:ext cx="1021320" cy="8934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1213740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3333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1188252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1239408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12649320" y="1165320"/>
                  <a:ext cx="1020960" cy="8934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1315872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3333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1290420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341540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3666680" y="1165320"/>
                  <a:ext cx="1021320" cy="8934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1417644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3333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392156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14433120" y="1165320"/>
                  <a:ext cx="0" cy="893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2" name=""/>
              <p:cNvSpPr/>
              <p:nvPr/>
            </p:nvSpPr>
            <p:spPr>
              <a:xfrm>
                <a:off x="2448000" y="880920"/>
                <a:ext cx="1019160" cy="28440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74920"/>
                    <a:tab algn="l" pos="2949480"/>
                    <a:tab algn="l" pos="4424400"/>
                    <a:tab algn="l" pos="5899320"/>
                    <a:tab algn="l" pos="7373880"/>
                    <a:tab algn="l" pos="8848800"/>
                    <a:tab algn="l" pos="1032336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2011/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467160" y="880920"/>
                <a:ext cx="1019160" cy="28440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74920"/>
                    <a:tab algn="l" pos="2949480"/>
                    <a:tab algn="l" pos="4424400"/>
                    <a:tab algn="l" pos="5899320"/>
                    <a:tab algn="l" pos="7373880"/>
                    <a:tab algn="l" pos="8848800"/>
                    <a:tab algn="l" pos="1032336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488480" y="880920"/>
                <a:ext cx="1019160" cy="28440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74920"/>
                    <a:tab algn="l" pos="2949480"/>
                    <a:tab algn="l" pos="4424400"/>
                    <a:tab algn="l" pos="5899320"/>
                    <a:tab algn="l" pos="7373880"/>
                    <a:tab algn="l" pos="8848800"/>
                    <a:tab algn="l" pos="1032336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508000" y="880920"/>
                <a:ext cx="1019160" cy="28440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74920"/>
                    <a:tab algn="l" pos="2949480"/>
                    <a:tab algn="l" pos="4424400"/>
                    <a:tab algn="l" pos="5899320"/>
                    <a:tab algn="l" pos="7373880"/>
                    <a:tab algn="l" pos="8848800"/>
                    <a:tab algn="l" pos="1032336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529680" y="880920"/>
                <a:ext cx="1019160" cy="28440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74920"/>
                    <a:tab algn="l" pos="2949480"/>
                    <a:tab algn="l" pos="4424400"/>
                    <a:tab algn="l" pos="5899320"/>
                    <a:tab algn="l" pos="7373880"/>
                    <a:tab algn="l" pos="8848800"/>
                    <a:tab algn="l" pos="1032336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549200" y="880920"/>
                <a:ext cx="1018800" cy="28440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74920"/>
                    <a:tab algn="l" pos="2949480"/>
                    <a:tab algn="l" pos="4424400"/>
                    <a:tab algn="l" pos="5899320"/>
                    <a:tab algn="l" pos="7373880"/>
                    <a:tab algn="l" pos="8848800"/>
                    <a:tab algn="l" pos="1032336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8570160" y="880920"/>
                <a:ext cx="1019160" cy="28440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74920"/>
                    <a:tab algn="l" pos="2949480"/>
                    <a:tab algn="l" pos="4424400"/>
                    <a:tab algn="l" pos="5899320"/>
                    <a:tab algn="l" pos="7373880"/>
                    <a:tab algn="l" pos="8848800"/>
                    <a:tab algn="l" pos="1032336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9589680" y="880920"/>
                <a:ext cx="1019160" cy="28440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74920"/>
                    <a:tab algn="l" pos="2949480"/>
                    <a:tab algn="l" pos="4424400"/>
                    <a:tab algn="l" pos="5899320"/>
                    <a:tab algn="l" pos="7373880"/>
                    <a:tab algn="l" pos="8848800"/>
                    <a:tab algn="l" pos="1032336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0607040" y="880920"/>
                <a:ext cx="1019160" cy="28440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74920"/>
                    <a:tab algn="l" pos="2949480"/>
                    <a:tab algn="l" pos="4424400"/>
                    <a:tab algn="l" pos="5899320"/>
                    <a:tab algn="l" pos="7373880"/>
                    <a:tab algn="l" pos="8848800"/>
                    <a:tab algn="l" pos="1032336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1626560" y="880920"/>
                <a:ext cx="1019160" cy="28440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74920"/>
                    <a:tab algn="l" pos="2949480"/>
                    <a:tab algn="l" pos="4424400"/>
                    <a:tab algn="l" pos="5899320"/>
                    <a:tab algn="l" pos="7373880"/>
                    <a:tab algn="l" pos="8848800"/>
                    <a:tab algn="l" pos="1032336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2647880" y="880920"/>
                <a:ext cx="1019160" cy="28440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74920"/>
                    <a:tab algn="l" pos="2949480"/>
                    <a:tab algn="l" pos="4424400"/>
                    <a:tab algn="l" pos="5899320"/>
                    <a:tab algn="l" pos="7373880"/>
                    <a:tab algn="l" pos="8848800"/>
                    <a:tab algn="l" pos="1032336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3667400" y="880920"/>
                <a:ext cx="1019160" cy="28440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74920"/>
                    <a:tab algn="l" pos="2949480"/>
                    <a:tab algn="l" pos="4424400"/>
                    <a:tab algn="l" pos="5899320"/>
                    <a:tab algn="l" pos="7373880"/>
                    <a:tab algn="l" pos="8848800"/>
                    <a:tab algn="l" pos="1032336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2448000" y="880920"/>
              <a:ext cx="12241080" cy="9218880"/>
            </a:xfrm>
            <a:prstGeom prst="rect">
              <a:avLst/>
            </a:prstGeom>
            <a:noFill/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431640" y="5634000"/>
            <a:ext cx="1425924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31640" y="3402000"/>
            <a:ext cx="1425924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1640" y="7867800"/>
            <a:ext cx="1425924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04720" y="1243080"/>
            <a:ext cx="1871640" cy="934920"/>
          </a:xfrm>
          <a:prstGeom prst="rect">
            <a:avLst/>
          </a:prstGeom>
          <a:solidFill>
            <a:srgbClr val="ffffff"/>
          </a:solidFill>
          <a:ln w="324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1640" y="2251080"/>
            <a:ext cx="14259240" cy="0"/>
          </a:xfrm>
          <a:prstGeom prst="line">
            <a:avLst/>
          </a:prstGeom>
          <a:ln w="1260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4720" y="2322360"/>
            <a:ext cx="1871640" cy="1008360"/>
          </a:xfrm>
          <a:prstGeom prst="rect">
            <a:avLst/>
          </a:prstGeom>
          <a:solidFill>
            <a:srgbClr val="ffffff"/>
          </a:solidFill>
          <a:ln w="324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04720" y="3475080"/>
            <a:ext cx="1871640" cy="934920"/>
          </a:xfrm>
          <a:prstGeom prst="rect">
            <a:avLst/>
          </a:prstGeom>
          <a:solidFill>
            <a:srgbClr val="ffffff"/>
          </a:solidFill>
          <a:ln w="324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31640" y="4483080"/>
            <a:ext cx="14259240" cy="0"/>
          </a:xfrm>
          <a:prstGeom prst="line">
            <a:avLst/>
          </a:prstGeom>
          <a:ln w="1260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04720" y="4554360"/>
            <a:ext cx="1871640" cy="1008360"/>
          </a:xfrm>
          <a:prstGeom prst="rect">
            <a:avLst/>
          </a:prstGeom>
          <a:solidFill>
            <a:srgbClr val="ffffff"/>
          </a:solidFill>
          <a:ln w="324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04720" y="5707080"/>
            <a:ext cx="1871640" cy="934920"/>
          </a:xfrm>
          <a:prstGeom prst="rect">
            <a:avLst/>
          </a:prstGeom>
          <a:solidFill>
            <a:srgbClr val="ffffff"/>
          </a:solidFill>
          <a:ln w="324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31640" y="6715080"/>
            <a:ext cx="14259240" cy="0"/>
          </a:xfrm>
          <a:prstGeom prst="line">
            <a:avLst/>
          </a:prstGeom>
          <a:ln w="1260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4720" y="6786720"/>
            <a:ext cx="1871640" cy="1008000"/>
          </a:xfrm>
          <a:prstGeom prst="rect">
            <a:avLst/>
          </a:prstGeom>
          <a:solidFill>
            <a:srgbClr val="ffffff"/>
          </a:solidFill>
          <a:ln w="324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04720" y="7939080"/>
            <a:ext cx="1871640" cy="934920"/>
          </a:xfrm>
          <a:prstGeom prst="rect">
            <a:avLst/>
          </a:prstGeom>
          <a:solidFill>
            <a:srgbClr val="ffffff"/>
          </a:solidFill>
          <a:ln w="324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31640" y="8947080"/>
            <a:ext cx="14259240" cy="0"/>
          </a:xfrm>
          <a:prstGeom prst="line">
            <a:avLst/>
          </a:prstGeom>
          <a:ln w="1260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04720" y="9018720"/>
            <a:ext cx="1871640" cy="1008000"/>
          </a:xfrm>
          <a:prstGeom prst="rect">
            <a:avLst/>
          </a:prstGeom>
          <a:solidFill>
            <a:srgbClr val="ffffff"/>
          </a:solidFill>
          <a:ln w="324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649440" y="739800"/>
            <a:ext cx="1800000" cy="172728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727280"/>
              <a:gd name="textAreaBottom" fmla="*/ 172764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bfdfd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49440" y="2682720"/>
            <a:ext cx="1800000" cy="172908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729080"/>
              <a:gd name="textAreaBottom" fmla="*/ 172944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cfefa"/>
              </a:gs>
              <a:gs pos="100000">
                <a:srgbClr val="ccff99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49440" y="4627440"/>
            <a:ext cx="1800000" cy="172908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729080"/>
              <a:gd name="textAreaBottom" fmla="*/ 172944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cfc"/>
              </a:gs>
              <a:gs pos="100000">
                <a:srgbClr val="ffcccc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49440" y="6572160"/>
            <a:ext cx="1800000" cy="172728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727280"/>
              <a:gd name="textAreaBottom" fmla="*/ 172764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6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49440" y="8516880"/>
            <a:ext cx="1726920" cy="1728720"/>
          </a:xfrm>
          <a:custGeom>
            <a:avLst/>
            <a:gdLst>
              <a:gd name="textAreaLeft" fmla="*/ 0 w 1726920"/>
              <a:gd name="textAreaRight" fmla="*/ 1727280 w 1726920"/>
              <a:gd name="textAreaTop" fmla="*/ 0 h 1728720"/>
              <a:gd name="textAreaBottom" fmla="*/ 172908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cf6"/>
              </a:gs>
              <a:gs pos="100000">
                <a:srgbClr val="ffcc00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448000" y="738360"/>
            <a:ext cx="12315600" cy="1799640"/>
            <a:chOff x="2448000" y="738360"/>
            <a:chExt cx="12315600" cy="1799640"/>
          </a:xfrm>
        </p:grpSpPr>
        <p:sp>
          <p:nvSpPr>
            <p:cNvPr id="346" name=""/>
            <p:cNvSpPr/>
            <p:nvPr/>
          </p:nvSpPr>
          <p:spPr>
            <a:xfrm>
              <a:off x="2521080" y="811080"/>
              <a:ext cx="12242520" cy="172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2449440" y="1022400"/>
              <a:ext cx="12238920" cy="1444320"/>
              <a:chOff x="2449440" y="1022400"/>
              <a:chExt cx="12238920" cy="1444320"/>
            </a:xfrm>
          </p:grpSpPr>
          <p:sp>
            <p:nvSpPr>
              <p:cNvPr id="348" name=""/>
              <p:cNvSpPr/>
              <p:nvPr/>
            </p:nvSpPr>
            <p:spPr>
              <a:xfrm>
                <a:off x="2449440" y="1022400"/>
                <a:ext cx="1020960" cy="1444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958840" y="1022400"/>
                <a:ext cx="0" cy="144432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703960" y="1022400"/>
                <a:ext cx="0" cy="1444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215520" y="1022400"/>
                <a:ext cx="0" cy="1444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470400" y="1022400"/>
                <a:ext cx="1020960" cy="1444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980160" y="1022400"/>
                <a:ext cx="0" cy="144432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725640" y="1022400"/>
                <a:ext cx="0" cy="1444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237200" y="1022400"/>
                <a:ext cx="0" cy="1444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487760" y="1022400"/>
                <a:ext cx="1021320" cy="1444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997880" y="1022400"/>
                <a:ext cx="0" cy="144432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743000" y="1022400"/>
                <a:ext cx="0" cy="1444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254560" y="1022400"/>
                <a:ext cx="0" cy="1444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509440" y="1022400"/>
                <a:ext cx="1020960" cy="1444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019200" y="1022400"/>
                <a:ext cx="0" cy="144432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764320" y="1022400"/>
                <a:ext cx="0" cy="1444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275880" y="1022400"/>
                <a:ext cx="0" cy="1444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530760" y="1022400"/>
                <a:ext cx="1020960" cy="1444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040520" y="1022400"/>
                <a:ext cx="0" cy="144432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785640" y="1022400"/>
                <a:ext cx="0" cy="1444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297560" y="1022400"/>
                <a:ext cx="0" cy="1444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548480" y="1022400"/>
                <a:ext cx="1020960" cy="1444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8058240" y="1022400"/>
                <a:ext cx="0" cy="144432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803360" y="1022400"/>
                <a:ext cx="0" cy="1444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314920" y="1022400"/>
                <a:ext cx="0" cy="1444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567640" y="1022400"/>
                <a:ext cx="1021320" cy="1444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9077760" y="1022400"/>
                <a:ext cx="0" cy="144432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822880" y="1022400"/>
                <a:ext cx="0" cy="1444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9334440" y="1022400"/>
                <a:ext cx="0" cy="1444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9589320" y="1022400"/>
                <a:ext cx="1020960" cy="1444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0099080" y="1022400"/>
                <a:ext cx="0" cy="144432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9843840" y="1022400"/>
                <a:ext cx="0" cy="1444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0355760" y="1022400"/>
                <a:ext cx="0" cy="1444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0606680" y="1022400"/>
                <a:ext cx="1020960" cy="1444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1116800" y="1022400"/>
                <a:ext cx="0" cy="144432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0861920" y="1022400"/>
                <a:ext cx="0" cy="1444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1373480" y="1022400"/>
                <a:ext cx="0" cy="1444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1628000" y="1022400"/>
                <a:ext cx="1021320" cy="1444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2138120" y="1022400"/>
                <a:ext cx="0" cy="144432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1883240" y="1022400"/>
                <a:ext cx="0" cy="1444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2394800" y="1022400"/>
                <a:ext cx="0" cy="1444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2649680" y="1022400"/>
                <a:ext cx="1020960" cy="1444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3159440" y="1022400"/>
                <a:ext cx="0" cy="144432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2904920" y="1022400"/>
                <a:ext cx="0" cy="1444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3416120" y="1022400"/>
                <a:ext cx="0" cy="1444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3667040" y="1022400"/>
                <a:ext cx="1021320" cy="1444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4177160" y="1022400"/>
                <a:ext cx="0" cy="144432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3922280" y="1022400"/>
                <a:ext cx="0" cy="1444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4433840" y="1022400"/>
                <a:ext cx="0" cy="1444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"/>
            <p:cNvSpPr/>
            <p:nvPr/>
          </p:nvSpPr>
          <p:spPr>
            <a:xfrm>
              <a:off x="2448000" y="738360"/>
              <a:ext cx="1019160" cy="2840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011/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467160" y="738360"/>
              <a:ext cx="1019160" cy="2840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489560" y="738360"/>
              <a:ext cx="1019160" cy="2840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508720" y="738360"/>
              <a:ext cx="1019160" cy="2840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529320" y="738360"/>
              <a:ext cx="1019160" cy="2840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548480" y="738360"/>
              <a:ext cx="1020960" cy="2840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570880" y="738360"/>
              <a:ext cx="1019160" cy="2840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9590040" y="738360"/>
              <a:ext cx="1019160" cy="2840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0607760" y="738360"/>
              <a:ext cx="1019160" cy="2840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1626920" y="738360"/>
              <a:ext cx="1019160" cy="2840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2647520" y="738360"/>
              <a:ext cx="1020960" cy="2840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3668480" y="738360"/>
              <a:ext cx="1019160" cy="2840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448000" y="739800"/>
              <a:ext cx="12242880" cy="1726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2448000" y="2682720"/>
            <a:ext cx="12315600" cy="1800360"/>
            <a:chOff x="2448000" y="2682720"/>
            <a:chExt cx="12315600" cy="1800360"/>
          </a:xfrm>
        </p:grpSpPr>
        <p:sp>
          <p:nvSpPr>
            <p:cNvPr id="410" name=""/>
            <p:cNvSpPr/>
            <p:nvPr/>
          </p:nvSpPr>
          <p:spPr>
            <a:xfrm>
              <a:off x="2521080" y="2755800"/>
              <a:ext cx="12242520" cy="172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2449440" y="2967120"/>
              <a:ext cx="12238920" cy="1444680"/>
              <a:chOff x="2449440" y="2967120"/>
              <a:chExt cx="12238920" cy="1444680"/>
            </a:xfrm>
          </p:grpSpPr>
          <p:sp>
            <p:nvSpPr>
              <p:cNvPr id="412" name=""/>
              <p:cNvSpPr/>
              <p:nvPr/>
            </p:nvSpPr>
            <p:spPr>
              <a:xfrm>
                <a:off x="2449440" y="2967120"/>
                <a:ext cx="1020960" cy="1444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958840" y="2967120"/>
                <a:ext cx="0" cy="144468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703960" y="296712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215520" y="296712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470400" y="2967120"/>
                <a:ext cx="1020960" cy="1444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980160" y="2967120"/>
                <a:ext cx="0" cy="144468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725640" y="296712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237200" y="296712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487760" y="2967120"/>
                <a:ext cx="1021320" cy="1444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997880" y="2967120"/>
                <a:ext cx="0" cy="144468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743000" y="296712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254560" y="296712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509440" y="2967120"/>
                <a:ext cx="1020960" cy="1444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019200" y="2967120"/>
                <a:ext cx="0" cy="144468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764320" y="296712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275880" y="296712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530760" y="2967120"/>
                <a:ext cx="1020960" cy="1444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040520" y="2967120"/>
                <a:ext cx="0" cy="144468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785640" y="296712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297560" y="296712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548480" y="2967120"/>
                <a:ext cx="1020960" cy="1444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8058240" y="2967120"/>
                <a:ext cx="0" cy="144468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803360" y="296712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314920" y="296712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567640" y="2967120"/>
                <a:ext cx="1021320" cy="1444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9077760" y="2967120"/>
                <a:ext cx="0" cy="144468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8822880" y="296712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9334440" y="296712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9589320" y="2967120"/>
                <a:ext cx="1020960" cy="1444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0099080" y="2967120"/>
                <a:ext cx="0" cy="144468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9843840" y="296712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0355760" y="296712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0606680" y="2967120"/>
                <a:ext cx="1020960" cy="1444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1116800" y="2967120"/>
                <a:ext cx="0" cy="144468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0861920" y="296712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1373480" y="296712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1628000" y="2967120"/>
                <a:ext cx="1021320" cy="1444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2138120" y="2967120"/>
                <a:ext cx="0" cy="144468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1883240" y="296712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2394800" y="296712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2649680" y="2967120"/>
                <a:ext cx="1020960" cy="1444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3159440" y="2967120"/>
                <a:ext cx="0" cy="144468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2904920" y="296712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3416120" y="296712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3667040" y="2967120"/>
                <a:ext cx="1021320" cy="1444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4177160" y="2967120"/>
                <a:ext cx="0" cy="144468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3922280" y="296712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4433840" y="296712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0" name=""/>
            <p:cNvSpPr/>
            <p:nvPr/>
          </p:nvSpPr>
          <p:spPr>
            <a:xfrm>
              <a:off x="2448000" y="2682720"/>
              <a:ext cx="1019160" cy="2844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011/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467160" y="2682720"/>
              <a:ext cx="1019160" cy="2844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489560" y="2682720"/>
              <a:ext cx="1019160" cy="2844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08720" y="2682720"/>
              <a:ext cx="1019160" cy="2844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529320" y="2682720"/>
              <a:ext cx="1019160" cy="2844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548480" y="2682720"/>
              <a:ext cx="1020960" cy="2844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570880" y="2682720"/>
              <a:ext cx="1019160" cy="2844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590040" y="2682720"/>
              <a:ext cx="1019160" cy="2844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607760" y="2682720"/>
              <a:ext cx="1019160" cy="2844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1626920" y="2682720"/>
              <a:ext cx="1019160" cy="2844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2647520" y="2682720"/>
              <a:ext cx="1020960" cy="2844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3668480" y="2682720"/>
              <a:ext cx="1019160" cy="2844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48000" y="2684520"/>
              <a:ext cx="12242880" cy="1727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2448000" y="4627440"/>
            <a:ext cx="12315600" cy="1800360"/>
            <a:chOff x="2448000" y="4627440"/>
            <a:chExt cx="12315600" cy="1800360"/>
          </a:xfrm>
        </p:grpSpPr>
        <p:sp>
          <p:nvSpPr>
            <p:cNvPr id="474" name=""/>
            <p:cNvSpPr/>
            <p:nvPr/>
          </p:nvSpPr>
          <p:spPr>
            <a:xfrm>
              <a:off x="2521080" y="4700520"/>
              <a:ext cx="12242520" cy="172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2449440" y="4911840"/>
              <a:ext cx="12238920" cy="1444680"/>
              <a:chOff x="2449440" y="4911840"/>
              <a:chExt cx="12238920" cy="1444680"/>
            </a:xfrm>
          </p:grpSpPr>
          <p:sp>
            <p:nvSpPr>
              <p:cNvPr id="476" name=""/>
              <p:cNvSpPr/>
              <p:nvPr/>
            </p:nvSpPr>
            <p:spPr>
              <a:xfrm>
                <a:off x="2449440" y="4911840"/>
                <a:ext cx="1020960" cy="1444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958840" y="4911840"/>
                <a:ext cx="0" cy="144468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703960" y="491184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215520" y="491184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470400" y="4911840"/>
                <a:ext cx="1020960" cy="1444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980160" y="4911840"/>
                <a:ext cx="0" cy="144468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725640" y="491184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237200" y="491184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487760" y="4911840"/>
                <a:ext cx="1021320" cy="1444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997880" y="4911840"/>
                <a:ext cx="0" cy="144468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743000" y="491184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254560" y="491184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509440" y="4911840"/>
                <a:ext cx="1020960" cy="1444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019200" y="4911840"/>
                <a:ext cx="0" cy="144468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764320" y="491184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275880" y="491184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530760" y="4911840"/>
                <a:ext cx="1020960" cy="1444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040520" y="4911840"/>
                <a:ext cx="0" cy="144468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785640" y="491184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297560" y="491184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548480" y="4911840"/>
                <a:ext cx="1020960" cy="1444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8058240" y="4911840"/>
                <a:ext cx="0" cy="144468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803360" y="491184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8314920" y="491184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8567640" y="4911840"/>
                <a:ext cx="1021320" cy="1444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9077760" y="4911840"/>
                <a:ext cx="0" cy="144468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8822880" y="491184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9334440" y="491184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9589320" y="4911840"/>
                <a:ext cx="1020960" cy="1444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0099080" y="4911840"/>
                <a:ext cx="0" cy="144468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9843840" y="491184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0355760" y="491184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0606680" y="4911840"/>
                <a:ext cx="1020960" cy="1444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1116800" y="4911840"/>
                <a:ext cx="0" cy="144468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0861920" y="491184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1373480" y="491184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1628000" y="4911840"/>
                <a:ext cx="1021320" cy="1444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2138120" y="4911840"/>
                <a:ext cx="0" cy="144468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1883240" y="491184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2394800" y="491184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2649680" y="4911840"/>
                <a:ext cx="1020960" cy="1444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3159440" y="4911840"/>
                <a:ext cx="0" cy="144468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2904920" y="491184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3416120" y="491184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3667040" y="4911840"/>
                <a:ext cx="1021320" cy="1444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4177160" y="4911840"/>
                <a:ext cx="0" cy="144468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3922280" y="491184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4433840" y="491184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" name=""/>
            <p:cNvSpPr/>
            <p:nvPr/>
          </p:nvSpPr>
          <p:spPr>
            <a:xfrm>
              <a:off x="2448000" y="4627440"/>
              <a:ext cx="1019160" cy="2844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011/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467160" y="4627440"/>
              <a:ext cx="1019160" cy="2844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489560" y="4627440"/>
              <a:ext cx="1019160" cy="2844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508720" y="4627440"/>
              <a:ext cx="1019160" cy="2844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529320" y="4627440"/>
              <a:ext cx="1019160" cy="2844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548480" y="4627440"/>
              <a:ext cx="1020960" cy="2844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570880" y="4627440"/>
              <a:ext cx="1019160" cy="2844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9590040" y="4627440"/>
              <a:ext cx="1019160" cy="2844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0607760" y="4627440"/>
              <a:ext cx="1019160" cy="2844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1626920" y="4627440"/>
              <a:ext cx="1019160" cy="2844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647520" y="4627440"/>
              <a:ext cx="1020960" cy="2844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3668480" y="4627440"/>
              <a:ext cx="1019160" cy="2844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448000" y="4629240"/>
              <a:ext cx="12242880" cy="1727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2448000" y="6572160"/>
            <a:ext cx="12315600" cy="1800360"/>
            <a:chOff x="2448000" y="6572160"/>
            <a:chExt cx="12315600" cy="1800360"/>
          </a:xfrm>
        </p:grpSpPr>
        <p:sp>
          <p:nvSpPr>
            <p:cNvPr id="538" name=""/>
            <p:cNvSpPr/>
            <p:nvPr/>
          </p:nvSpPr>
          <p:spPr>
            <a:xfrm>
              <a:off x="2521080" y="6645240"/>
              <a:ext cx="12242520" cy="172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" name=""/>
            <p:cNvGrpSpPr/>
            <p:nvPr/>
          </p:nvGrpSpPr>
          <p:grpSpPr>
            <a:xfrm>
              <a:off x="2449440" y="6856560"/>
              <a:ext cx="12238920" cy="1444680"/>
              <a:chOff x="2449440" y="6856560"/>
              <a:chExt cx="12238920" cy="1444680"/>
            </a:xfrm>
          </p:grpSpPr>
          <p:sp>
            <p:nvSpPr>
              <p:cNvPr id="540" name=""/>
              <p:cNvSpPr/>
              <p:nvPr/>
            </p:nvSpPr>
            <p:spPr>
              <a:xfrm>
                <a:off x="2449440" y="6856560"/>
                <a:ext cx="1020960" cy="1444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958840" y="6856560"/>
                <a:ext cx="0" cy="144468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703960" y="685656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215520" y="685656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470400" y="6856560"/>
                <a:ext cx="1020960" cy="1444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980160" y="6856560"/>
                <a:ext cx="0" cy="144468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725640" y="685656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237200" y="685656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487760" y="6856560"/>
                <a:ext cx="1021320" cy="1444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997880" y="6856560"/>
                <a:ext cx="0" cy="144468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743000" y="685656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254560" y="685656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509440" y="6856560"/>
                <a:ext cx="1020960" cy="1444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019200" y="6856560"/>
                <a:ext cx="0" cy="144468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764320" y="685656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275880" y="685656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530760" y="6856560"/>
                <a:ext cx="1020960" cy="1444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040520" y="6856560"/>
                <a:ext cx="0" cy="144468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785640" y="685656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297560" y="685656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548480" y="6856560"/>
                <a:ext cx="1020960" cy="1444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058240" y="6856560"/>
                <a:ext cx="0" cy="144468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803360" y="685656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8314920" y="685656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567640" y="6856560"/>
                <a:ext cx="1021320" cy="1444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9077760" y="6856560"/>
                <a:ext cx="0" cy="144468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822880" y="685656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9334440" y="685656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589320" y="6856560"/>
                <a:ext cx="1020960" cy="1444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0099080" y="6856560"/>
                <a:ext cx="0" cy="144468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9843840" y="685656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0355760" y="685656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0606680" y="6856560"/>
                <a:ext cx="1020960" cy="1444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1116800" y="6856560"/>
                <a:ext cx="0" cy="144468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0861920" y="685656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1373480" y="685656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1628000" y="6856560"/>
                <a:ext cx="1021320" cy="1444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2138120" y="6856560"/>
                <a:ext cx="0" cy="144468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1883240" y="685656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2394800" y="685656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2649680" y="6856560"/>
                <a:ext cx="1020960" cy="1444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3159440" y="6856560"/>
                <a:ext cx="0" cy="144468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2904920" y="685656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3416120" y="685656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3667040" y="6856560"/>
                <a:ext cx="1021320" cy="1444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4177160" y="6856560"/>
                <a:ext cx="0" cy="144468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3922280" y="685656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4433840" y="685656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8" name=""/>
            <p:cNvSpPr/>
            <p:nvPr/>
          </p:nvSpPr>
          <p:spPr>
            <a:xfrm>
              <a:off x="2448000" y="6572160"/>
              <a:ext cx="1019160" cy="2844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011/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467160" y="6572160"/>
              <a:ext cx="1019160" cy="2844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89560" y="6572160"/>
              <a:ext cx="1019160" cy="2844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508720" y="6572160"/>
              <a:ext cx="1019160" cy="2844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529320" y="6572160"/>
              <a:ext cx="1019160" cy="2844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548480" y="6572160"/>
              <a:ext cx="1020960" cy="2844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570880" y="6572160"/>
              <a:ext cx="1019160" cy="2844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9590040" y="6572160"/>
              <a:ext cx="1019160" cy="2844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0607760" y="6572160"/>
              <a:ext cx="1019160" cy="2844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1626920" y="6572160"/>
              <a:ext cx="1019160" cy="2844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2647520" y="6572160"/>
              <a:ext cx="1020960" cy="2844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3668480" y="6572160"/>
              <a:ext cx="1019160" cy="2844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448000" y="6573960"/>
              <a:ext cx="12242880" cy="1727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2374920" y="8516880"/>
            <a:ext cx="12315600" cy="1800360"/>
            <a:chOff x="2374920" y="8516880"/>
            <a:chExt cx="12315600" cy="1800360"/>
          </a:xfrm>
        </p:grpSpPr>
        <p:sp>
          <p:nvSpPr>
            <p:cNvPr id="602" name=""/>
            <p:cNvSpPr/>
            <p:nvPr/>
          </p:nvSpPr>
          <p:spPr>
            <a:xfrm>
              <a:off x="2448000" y="8589960"/>
              <a:ext cx="12242520" cy="172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2376360" y="8801280"/>
              <a:ext cx="12238920" cy="1444680"/>
              <a:chOff x="2376360" y="8801280"/>
              <a:chExt cx="12238920" cy="1444680"/>
            </a:xfrm>
          </p:grpSpPr>
          <p:sp>
            <p:nvSpPr>
              <p:cNvPr id="604" name=""/>
              <p:cNvSpPr/>
              <p:nvPr/>
            </p:nvSpPr>
            <p:spPr>
              <a:xfrm>
                <a:off x="2376360" y="8801280"/>
                <a:ext cx="1020960" cy="1444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885760" y="8801280"/>
                <a:ext cx="0" cy="144468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630880" y="880128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142440" y="880128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397320" y="8801280"/>
                <a:ext cx="1020960" cy="1444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907080" y="8801280"/>
                <a:ext cx="0" cy="144468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652560" y="880128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164120" y="880128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414680" y="8801280"/>
                <a:ext cx="1021320" cy="1444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924800" y="8801280"/>
                <a:ext cx="0" cy="144468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669920" y="880128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181480" y="880128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436360" y="8801280"/>
                <a:ext cx="1020960" cy="1444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946120" y="8801280"/>
                <a:ext cx="0" cy="144468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691240" y="880128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202800" y="880128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457680" y="8801280"/>
                <a:ext cx="1020960" cy="1444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967440" y="8801280"/>
                <a:ext cx="0" cy="144468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712560" y="880128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224480" y="880128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475400" y="8801280"/>
                <a:ext cx="1020960" cy="1444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985160" y="8801280"/>
                <a:ext cx="0" cy="144468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730280" y="880128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241840" y="880128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494560" y="8801280"/>
                <a:ext cx="1021320" cy="1444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04680" y="8801280"/>
                <a:ext cx="0" cy="144468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8749800" y="880128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9261360" y="880128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9516240" y="8801280"/>
                <a:ext cx="1020960" cy="1444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0026000" y="8801280"/>
                <a:ext cx="0" cy="144468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9770760" y="880128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0282680" y="880128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0533600" y="8801280"/>
                <a:ext cx="1020960" cy="1444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1043720" y="8801280"/>
                <a:ext cx="0" cy="144468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0788840" y="880128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1300400" y="880128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1554920" y="8801280"/>
                <a:ext cx="1021320" cy="1444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2065040" y="8801280"/>
                <a:ext cx="0" cy="144468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1810160" y="880128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2321720" y="880128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2576600" y="8801280"/>
                <a:ext cx="1020960" cy="1444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3086360" y="8801280"/>
                <a:ext cx="0" cy="144468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2831840" y="880128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3343040" y="880128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3593960" y="8801280"/>
                <a:ext cx="1021320" cy="1444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4104080" y="8801280"/>
                <a:ext cx="0" cy="144468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3849200" y="880128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4360760" y="8801280"/>
                <a:ext cx="0" cy="144468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2" name=""/>
            <p:cNvSpPr/>
            <p:nvPr/>
          </p:nvSpPr>
          <p:spPr>
            <a:xfrm>
              <a:off x="2374920" y="8516880"/>
              <a:ext cx="1019160" cy="2844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011/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394080" y="8516880"/>
              <a:ext cx="1019160" cy="2844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416480" y="8516880"/>
              <a:ext cx="1019160" cy="2844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435640" y="8516880"/>
              <a:ext cx="1019160" cy="2844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456240" y="8516880"/>
              <a:ext cx="1019160" cy="2844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475400" y="8516880"/>
              <a:ext cx="1020960" cy="2844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497800" y="8516880"/>
              <a:ext cx="1019160" cy="2844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9516960" y="8516880"/>
              <a:ext cx="1019160" cy="2844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0534680" y="8516880"/>
              <a:ext cx="1019160" cy="2844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1553840" y="8516880"/>
              <a:ext cx="1019160" cy="2844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2574440" y="8516880"/>
              <a:ext cx="1020960" cy="2844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3595400" y="8516880"/>
              <a:ext cx="1019160" cy="2844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374920" y="8518680"/>
              <a:ext cx="12242880" cy="1727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"/>
          <p:cNvSpPr/>
          <p:nvPr/>
        </p:nvSpPr>
        <p:spPr>
          <a:xfrm>
            <a:off x="865800" y="809640"/>
            <a:ext cx="8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A</a:t>
            </a:r>
            <a:r>
              <a:rPr b="1" lang="zh-CN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氏の予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867960" y="2754360"/>
            <a:ext cx="8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B</a:t>
            </a:r>
            <a:r>
              <a:rPr b="1" lang="zh-CN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氏の予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865440" y="4699080"/>
            <a:ext cx="8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C</a:t>
            </a:r>
            <a:r>
              <a:rPr b="1" lang="zh-CN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氏の予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866160" y="664380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D</a:t>
            </a:r>
            <a:r>
              <a:rPr b="1" lang="zh-CN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氏の予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70840" y="858672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E</a:t>
            </a:r>
            <a:r>
              <a:rPr b="1" lang="zh-CN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氏の予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649440" y="739800"/>
            <a:ext cx="1800000" cy="439092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4390920"/>
              <a:gd name="textAreaBottom" fmla="*/ 4391280 h 43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bfdfd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2448000" y="738360"/>
            <a:ext cx="12315600" cy="4464000"/>
            <a:chOff x="2448000" y="738360"/>
            <a:chExt cx="12315600" cy="4464000"/>
          </a:xfrm>
        </p:grpSpPr>
        <p:sp>
          <p:nvSpPr>
            <p:cNvPr id="672" name=""/>
            <p:cNvSpPr/>
            <p:nvPr/>
          </p:nvSpPr>
          <p:spPr>
            <a:xfrm>
              <a:off x="2521080" y="811080"/>
              <a:ext cx="12242520" cy="439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3" name=""/>
            <p:cNvGrpSpPr/>
            <p:nvPr/>
          </p:nvGrpSpPr>
          <p:grpSpPr>
            <a:xfrm>
              <a:off x="2449440" y="1022400"/>
              <a:ext cx="12238920" cy="4108320"/>
              <a:chOff x="2449440" y="1022400"/>
              <a:chExt cx="12238920" cy="4108320"/>
            </a:xfrm>
          </p:grpSpPr>
          <p:sp>
            <p:nvSpPr>
              <p:cNvPr id="674" name=""/>
              <p:cNvSpPr/>
              <p:nvPr/>
            </p:nvSpPr>
            <p:spPr>
              <a:xfrm>
                <a:off x="2449440" y="1022400"/>
                <a:ext cx="1020960" cy="4108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958840" y="1022400"/>
                <a:ext cx="0" cy="410832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703960" y="1022400"/>
                <a:ext cx="0" cy="4108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215520" y="1022400"/>
                <a:ext cx="0" cy="4108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470400" y="1022400"/>
                <a:ext cx="1020960" cy="4108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980160" y="1022400"/>
                <a:ext cx="0" cy="410832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725640" y="1022400"/>
                <a:ext cx="0" cy="4108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237200" y="1022400"/>
                <a:ext cx="0" cy="4108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487760" y="1022400"/>
                <a:ext cx="1021320" cy="4108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4997880" y="1022400"/>
                <a:ext cx="0" cy="410832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743000" y="1022400"/>
                <a:ext cx="0" cy="4108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254560" y="1022400"/>
                <a:ext cx="0" cy="4108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509440" y="1022400"/>
                <a:ext cx="1020960" cy="4108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6019200" y="1022400"/>
                <a:ext cx="0" cy="410832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764320" y="1022400"/>
                <a:ext cx="0" cy="4108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6275880" y="1022400"/>
                <a:ext cx="0" cy="4108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530760" y="1022400"/>
                <a:ext cx="1020960" cy="4108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040520" y="1022400"/>
                <a:ext cx="0" cy="410832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6785640" y="1022400"/>
                <a:ext cx="0" cy="4108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297560" y="1022400"/>
                <a:ext cx="0" cy="4108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548480" y="1022400"/>
                <a:ext cx="1020960" cy="4108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058240" y="1022400"/>
                <a:ext cx="0" cy="410832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803360" y="1022400"/>
                <a:ext cx="0" cy="4108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314920" y="1022400"/>
                <a:ext cx="0" cy="4108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567640" y="1022400"/>
                <a:ext cx="1021320" cy="4108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9077760" y="1022400"/>
                <a:ext cx="0" cy="410832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822880" y="1022400"/>
                <a:ext cx="0" cy="4108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334440" y="1022400"/>
                <a:ext cx="0" cy="4108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9589320" y="1022400"/>
                <a:ext cx="1020960" cy="4108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0099080" y="1022400"/>
                <a:ext cx="0" cy="410832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9843840" y="1022400"/>
                <a:ext cx="0" cy="4108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0355760" y="1022400"/>
                <a:ext cx="0" cy="4108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0606680" y="1022400"/>
                <a:ext cx="1020960" cy="4108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1116800" y="1022400"/>
                <a:ext cx="0" cy="410832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0861920" y="1022400"/>
                <a:ext cx="0" cy="4108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1373480" y="1022400"/>
                <a:ext cx="0" cy="4108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1628000" y="1022400"/>
                <a:ext cx="1021320" cy="4108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2138120" y="1022400"/>
                <a:ext cx="0" cy="410832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1883240" y="1022400"/>
                <a:ext cx="0" cy="4108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2394800" y="1022400"/>
                <a:ext cx="0" cy="4108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2649680" y="1022400"/>
                <a:ext cx="1020960" cy="4108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3159440" y="1022400"/>
                <a:ext cx="0" cy="410832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2904920" y="1022400"/>
                <a:ext cx="0" cy="4108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3416120" y="1022400"/>
                <a:ext cx="0" cy="4108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3667040" y="1022400"/>
                <a:ext cx="1021320" cy="4108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4177160" y="1022400"/>
                <a:ext cx="0" cy="410832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13922280" y="1022400"/>
                <a:ext cx="0" cy="4108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4433840" y="1022400"/>
                <a:ext cx="0" cy="4108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2" name=""/>
            <p:cNvSpPr/>
            <p:nvPr/>
          </p:nvSpPr>
          <p:spPr>
            <a:xfrm>
              <a:off x="2448000" y="738360"/>
              <a:ext cx="1019160" cy="2840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011/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467160" y="738360"/>
              <a:ext cx="1019160" cy="2840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489560" y="738360"/>
              <a:ext cx="1019160" cy="2840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508720" y="738360"/>
              <a:ext cx="1019160" cy="2840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529320" y="738360"/>
              <a:ext cx="1019160" cy="2840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548480" y="738360"/>
              <a:ext cx="1020960" cy="2840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570880" y="738360"/>
              <a:ext cx="1019160" cy="2840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9590040" y="738360"/>
              <a:ext cx="1019160" cy="2840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0607760" y="738360"/>
              <a:ext cx="1019160" cy="2840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1626920" y="738360"/>
              <a:ext cx="1019160" cy="2840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2647520" y="738360"/>
              <a:ext cx="1020960" cy="2840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3668480" y="738360"/>
              <a:ext cx="1019160" cy="2840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448000" y="739800"/>
              <a:ext cx="12242880" cy="4390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883440" y="787320"/>
            <a:ext cx="94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A</a:t>
            </a:r>
            <a:r>
              <a:rPr b="1" lang="zh-CN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プラン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場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49440" y="5634000"/>
            <a:ext cx="1800000" cy="439092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4390920"/>
              <a:gd name="textAreaBottom" fmla="*/ 4391280 h 43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cf6"/>
              </a:gs>
              <a:gs pos="100000">
                <a:srgbClr val="ffcc00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2448000" y="5632560"/>
            <a:ext cx="12315600" cy="4464000"/>
            <a:chOff x="2448000" y="5632560"/>
            <a:chExt cx="12315600" cy="4464000"/>
          </a:xfrm>
        </p:grpSpPr>
        <p:sp>
          <p:nvSpPr>
            <p:cNvPr id="738" name=""/>
            <p:cNvSpPr/>
            <p:nvPr/>
          </p:nvSpPr>
          <p:spPr>
            <a:xfrm>
              <a:off x="2521080" y="5705640"/>
              <a:ext cx="12242520" cy="4390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9" name=""/>
            <p:cNvGrpSpPr/>
            <p:nvPr/>
          </p:nvGrpSpPr>
          <p:grpSpPr>
            <a:xfrm>
              <a:off x="2449440" y="5916600"/>
              <a:ext cx="12238920" cy="4108320"/>
              <a:chOff x="2449440" y="5916600"/>
              <a:chExt cx="12238920" cy="4108320"/>
            </a:xfrm>
          </p:grpSpPr>
          <p:sp>
            <p:nvSpPr>
              <p:cNvPr id="740" name=""/>
              <p:cNvSpPr/>
              <p:nvPr/>
            </p:nvSpPr>
            <p:spPr>
              <a:xfrm>
                <a:off x="2449440" y="5916600"/>
                <a:ext cx="1020960" cy="4108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2958840" y="5916600"/>
                <a:ext cx="0" cy="410832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2703960" y="5916600"/>
                <a:ext cx="0" cy="4108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215520" y="5916600"/>
                <a:ext cx="0" cy="4108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470400" y="5916600"/>
                <a:ext cx="1020960" cy="4108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980160" y="5916600"/>
                <a:ext cx="0" cy="410832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725640" y="5916600"/>
                <a:ext cx="0" cy="4108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237200" y="5916600"/>
                <a:ext cx="0" cy="4108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4487760" y="5916600"/>
                <a:ext cx="1021320" cy="4108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997880" y="5916600"/>
                <a:ext cx="0" cy="410832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4743000" y="5916600"/>
                <a:ext cx="0" cy="4108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254560" y="5916600"/>
                <a:ext cx="0" cy="4108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509440" y="5916600"/>
                <a:ext cx="1020960" cy="4108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6019200" y="5916600"/>
                <a:ext cx="0" cy="410832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764320" y="5916600"/>
                <a:ext cx="0" cy="4108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6275880" y="5916600"/>
                <a:ext cx="0" cy="4108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6530760" y="5916600"/>
                <a:ext cx="1020960" cy="4108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040520" y="5916600"/>
                <a:ext cx="0" cy="410832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6785640" y="5916600"/>
                <a:ext cx="0" cy="4108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297560" y="5916600"/>
                <a:ext cx="0" cy="4108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548480" y="5916600"/>
                <a:ext cx="1020960" cy="4108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8058240" y="5916600"/>
                <a:ext cx="0" cy="410832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803360" y="5916600"/>
                <a:ext cx="0" cy="4108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8314920" y="5916600"/>
                <a:ext cx="0" cy="4108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8567640" y="5916600"/>
                <a:ext cx="1021320" cy="4108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9077760" y="5916600"/>
                <a:ext cx="0" cy="410832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8822880" y="5916600"/>
                <a:ext cx="0" cy="4108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9334440" y="5916600"/>
                <a:ext cx="0" cy="4108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9589320" y="5916600"/>
                <a:ext cx="1020960" cy="4108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0099080" y="5916600"/>
                <a:ext cx="0" cy="410832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9843840" y="5916600"/>
                <a:ext cx="0" cy="4108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0355760" y="5916600"/>
                <a:ext cx="0" cy="4108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0606680" y="5916600"/>
                <a:ext cx="1020960" cy="4108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1116800" y="5916600"/>
                <a:ext cx="0" cy="410832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0861920" y="5916600"/>
                <a:ext cx="0" cy="4108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1373480" y="5916600"/>
                <a:ext cx="0" cy="4108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1628000" y="5916600"/>
                <a:ext cx="1021320" cy="4108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2138120" y="5916600"/>
                <a:ext cx="0" cy="410832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1883240" y="5916600"/>
                <a:ext cx="0" cy="4108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2394800" y="5916600"/>
                <a:ext cx="0" cy="4108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2649680" y="5916600"/>
                <a:ext cx="1020960" cy="4108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3159440" y="5916600"/>
                <a:ext cx="0" cy="410832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2904920" y="5916600"/>
                <a:ext cx="0" cy="4108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3416120" y="5916600"/>
                <a:ext cx="0" cy="4108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13667040" y="5916600"/>
                <a:ext cx="1021320" cy="4108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14177160" y="5916600"/>
                <a:ext cx="0" cy="410832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3922280" y="5916600"/>
                <a:ext cx="0" cy="4108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4433840" y="5916600"/>
                <a:ext cx="0" cy="410832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8" name=""/>
            <p:cNvSpPr/>
            <p:nvPr/>
          </p:nvSpPr>
          <p:spPr>
            <a:xfrm>
              <a:off x="2448000" y="5632560"/>
              <a:ext cx="1019160" cy="2840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011/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467160" y="5632560"/>
              <a:ext cx="1019160" cy="2840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489560" y="5632560"/>
              <a:ext cx="1019160" cy="2840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508720" y="5632560"/>
              <a:ext cx="1019160" cy="2840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529320" y="5632560"/>
              <a:ext cx="1019160" cy="2840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548480" y="5632560"/>
              <a:ext cx="1020960" cy="2840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8570880" y="5632560"/>
              <a:ext cx="1019160" cy="2840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9590040" y="5632560"/>
              <a:ext cx="1019160" cy="2840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0607760" y="5632560"/>
              <a:ext cx="1019160" cy="2840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1626920" y="5632560"/>
              <a:ext cx="1019160" cy="2840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2647520" y="5632560"/>
              <a:ext cx="1020960" cy="2840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3668480" y="5632560"/>
              <a:ext cx="1019160" cy="2840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448000" y="5634000"/>
              <a:ext cx="12242880" cy="4390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1" name=""/>
          <p:cNvSpPr/>
          <p:nvPr/>
        </p:nvSpPr>
        <p:spPr>
          <a:xfrm>
            <a:off x="884160" y="5681520"/>
            <a:ext cx="93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B</a:t>
            </a:r>
            <a:r>
              <a:rPr b="1" lang="zh-CN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プラン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場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2" name=""/>
          <p:cNvGrpSpPr/>
          <p:nvPr/>
        </p:nvGrpSpPr>
        <p:grpSpPr>
          <a:xfrm>
            <a:off x="504720" y="809640"/>
            <a:ext cx="13827240" cy="9433080"/>
            <a:chOff x="504720" y="809640"/>
            <a:chExt cx="13827240" cy="9433080"/>
          </a:xfrm>
        </p:grpSpPr>
        <p:grpSp>
          <p:nvGrpSpPr>
            <p:cNvPr id="803" name=""/>
            <p:cNvGrpSpPr/>
            <p:nvPr/>
          </p:nvGrpSpPr>
          <p:grpSpPr>
            <a:xfrm>
              <a:off x="2303640" y="882720"/>
              <a:ext cx="936360" cy="9360000"/>
              <a:chOff x="2303640" y="882720"/>
              <a:chExt cx="936360" cy="9360000"/>
            </a:xfrm>
          </p:grpSpPr>
          <p:grpSp>
            <p:nvGrpSpPr>
              <p:cNvPr id="804" name=""/>
              <p:cNvGrpSpPr/>
              <p:nvPr/>
            </p:nvGrpSpPr>
            <p:grpSpPr>
              <a:xfrm>
                <a:off x="2303640" y="882720"/>
                <a:ext cx="936360" cy="9360000"/>
                <a:chOff x="2303640" y="882720"/>
                <a:chExt cx="936360" cy="9360000"/>
              </a:xfrm>
            </p:grpSpPr>
            <p:sp>
              <p:nvSpPr>
                <p:cNvPr id="805" name=""/>
                <p:cNvSpPr/>
                <p:nvPr/>
              </p:nvSpPr>
              <p:spPr>
                <a:xfrm>
                  <a:off x="2303640" y="882720"/>
                  <a:ext cx="936360" cy="9360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2800440" y="996480"/>
                  <a:ext cx="0" cy="8802360"/>
                </a:xfrm>
                <a:prstGeom prst="line">
                  <a:avLst/>
                </a:prstGeom>
                <a:ln w="3240">
                  <a:solidFill>
                    <a:srgbClr val="3333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2567160" y="952200"/>
                  <a:ext cx="0" cy="88020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3036960" y="1039680"/>
                  <a:ext cx="0" cy="88023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9" name=""/>
              <p:cNvSpPr/>
              <p:nvPr/>
            </p:nvSpPr>
            <p:spPr>
              <a:xfrm>
                <a:off x="2303640" y="1021320"/>
                <a:ext cx="936360" cy="34488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74920"/>
                    <a:tab algn="l" pos="2949480"/>
                    <a:tab algn="l" pos="4424400"/>
                    <a:tab algn="l" pos="5899320"/>
                    <a:tab algn="l" pos="7373880"/>
                    <a:tab algn="l" pos="8848800"/>
                    <a:tab algn="l" pos="1032336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2011/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0" name=""/>
            <p:cNvSpPr/>
            <p:nvPr/>
          </p:nvSpPr>
          <p:spPr>
            <a:xfrm>
              <a:off x="504720" y="809640"/>
              <a:ext cx="1744920" cy="936000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000066"/>
                </a:gs>
              </a:gsLst>
              <a:lin ang="10800000"/>
            </a:gra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1" name=""/>
            <p:cNvGrpSpPr/>
            <p:nvPr/>
          </p:nvGrpSpPr>
          <p:grpSpPr>
            <a:xfrm>
              <a:off x="3313080" y="882720"/>
              <a:ext cx="936720" cy="9360000"/>
              <a:chOff x="3313080" y="882720"/>
              <a:chExt cx="936720" cy="9360000"/>
            </a:xfrm>
          </p:grpSpPr>
          <p:grpSp>
            <p:nvGrpSpPr>
              <p:cNvPr id="812" name=""/>
              <p:cNvGrpSpPr/>
              <p:nvPr/>
            </p:nvGrpSpPr>
            <p:grpSpPr>
              <a:xfrm>
                <a:off x="3313080" y="882720"/>
                <a:ext cx="936720" cy="9360000"/>
                <a:chOff x="3313080" y="882720"/>
                <a:chExt cx="936720" cy="9360000"/>
              </a:xfrm>
            </p:grpSpPr>
            <p:sp>
              <p:nvSpPr>
                <p:cNvPr id="813" name=""/>
                <p:cNvSpPr/>
                <p:nvPr/>
              </p:nvSpPr>
              <p:spPr>
                <a:xfrm>
                  <a:off x="3313080" y="882720"/>
                  <a:ext cx="936720" cy="9360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3810240" y="996480"/>
                  <a:ext cx="0" cy="8802360"/>
                </a:xfrm>
                <a:prstGeom prst="line">
                  <a:avLst/>
                </a:prstGeom>
                <a:ln w="3240">
                  <a:solidFill>
                    <a:srgbClr val="3333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3576600" y="952200"/>
                  <a:ext cx="0" cy="88020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4046760" y="1039680"/>
                  <a:ext cx="0" cy="88023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7" name=""/>
              <p:cNvSpPr/>
              <p:nvPr/>
            </p:nvSpPr>
            <p:spPr>
              <a:xfrm>
                <a:off x="3313080" y="1021320"/>
                <a:ext cx="936720" cy="34488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74920"/>
                    <a:tab algn="l" pos="2949480"/>
                    <a:tab algn="l" pos="4424400"/>
                    <a:tab algn="l" pos="5899320"/>
                    <a:tab algn="l" pos="7373880"/>
                    <a:tab algn="l" pos="8848800"/>
                    <a:tab algn="l" pos="1032336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4321080" y="882720"/>
              <a:ext cx="936720" cy="9360000"/>
              <a:chOff x="4321080" y="882720"/>
              <a:chExt cx="936720" cy="9360000"/>
            </a:xfrm>
          </p:grpSpPr>
          <p:grpSp>
            <p:nvGrpSpPr>
              <p:cNvPr id="819" name=""/>
              <p:cNvGrpSpPr/>
              <p:nvPr/>
            </p:nvGrpSpPr>
            <p:grpSpPr>
              <a:xfrm>
                <a:off x="4321080" y="882720"/>
                <a:ext cx="936720" cy="9360000"/>
                <a:chOff x="4321080" y="882720"/>
                <a:chExt cx="936720" cy="9360000"/>
              </a:xfrm>
            </p:grpSpPr>
            <p:sp>
              <p:nvSpPr>
                <p:cNvPr id="820" name=""/>
                <p:cNvSpPr/>
                <p:nvPr/>
              </p:nvSpPr>
              <p:spPr>
                <a:xfrm>
                  <a:off x="4321080" y="882720"/>
                  <a:ext cx="936720" cy="9360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4818240" y="996480"/>
                  <a:ext cx="0" cy="8802360"/>
                </a:xfrm>
                <a:prstGeom prst="line">
                  <a:avLst/>
                </a:prstGeom>
                <a:ln w="3240">
                  <a:solidFill>
                    <a:srgbClr val="3333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4584600" y="952200"/>
                  <a:ext cx="0" cy="88020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5054760" y="1039680"/>
                  <a:ext cx="0" cy="88023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4" name=""/>
              <p:cNvSpPr/>
              <p:nvPr/>
            </p:nvSpPr>
            <p:spPr>
              <a:xfrm>
                <a:off x="4321080" y="1021320"/>
                <a:ext cx="936720" cy="34488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74920"/>
                    <a:tab algn="l" pos="2949480"/>
                    <a:tab algn="l" pos="4424400"/>
                    <a:tab algn="l" pos="5899320"/>
                    <a:tab algn="l" pos="7373880"/>
                    <a:tab algn="l" pos="8848800"/>
                    <a:tab algn="l" pos="1032336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5329080" y="882720"/>
              <a:ext cx="936720" cy="9360000"/>
              <a:chOff x="5329080" y="882720"/>
              <a:chExt cx="936720" cy="9360000"/>
            </a:xfrm>
          </p:grpSpPr>
          <p:grpSp>
            <p:nvGrpSpPr>
              <p:cNvPr id="826" name=""/>
              <p:cNvGrpSpPr/>
              <p:nvPr/>
            </p:nvGrpSpPr>
            <p:grpSpPr>
              <a:xfrm>
                <a:off x="5329080" y="882720"/>
                <a:ext cx="936720" cy="9360000"/>
                <a:chOff x="5329080" y="882720"/>
                <a:chExt cx="936720" cy="9360000"/>
              </a:xfrm>
            </p:grpSpPr>
            <p:sp>
              <p:nvSpPr>
                <p:cNvPr id="827" name=""/>
                <p:cNvSpPr/>
                <p:nvPr/>
              </p:nvSpPr>
              <p:spPr>
                <a:xfrm>
                  <a:off x="5329080" y="882720"/>
                  <a:ext cx="936720" cy="9360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5826240" y="996480"/>
                  <a:ext cx="0" cy="8802360"/>
                </a:xfrm>
                <a:prstGeom prst="line">
                  <a:avLst/>
                </a:prstGeom>
                <a:ln w="3240">
                  <a:solidFill>
                    <a:srgbClr val="3333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5592600" y="952200"/>
                  <a:ext cx="0" cy="88020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6062760" y="1039680"/>
                  <a:ext cx="0" cy="88023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"/>
              <p:cNvSpPr/>
              <p:nvPr/>
            </p:nvSpPr>
            <p:spPr>
              <a:xfrm>
                <a:off x="5329080" y="1021320"/>
                <a:ext cx="936720" cy="34488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74920"/>
                    <a:tab algn="l" pos="2949480"/>
                    <a:tab algn="l" pos="4424400"/>
                    <a:tab algn="l" pos="5899320"/>
                    <a:tab algn="l" pos="7373880"/>
                    <a:tab algn="l" pos="8848800"/>
                    <a:tab algn="l" pos="1032336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2" name=""/>
            <p:cNvGrpSpPr/>
            <p:nvPr/>
          </p:nvGrpSpPr>
          <p:grpSpPr>
            <a:xfrm>
              <a:off x="6337440" y="882720"/>
              <a:ext cx="936360" cy="9360000"/>
              <a:chOff x="6337440" y="882720"/>
              <a:chExt cx="936360" cy="9360000"/>
            </a:xfrm>
          </p:grpSpPr>
          <p:grpSp>
            <p:nvGrpSpPr>
              <p:cNvPr id="833" name=""/>
              <p:cNvGrpSpPr/>
              <p:nvPr/>
            </p:nvGrpSpPr>
            <p:grpSpPr>
              <a:xfrm>
                <a:off x="6337440" y="882720"/>
                <a:ext cx="936360" cy="9360000"/>
                <a:chOff x="6337440" y="882720"/>
                <a:chExt cx="936360" cy="9360000"/>
              </a:xfrm>
            </p:grpSpPr>
            <p:sp>
              <p:nvSpPr>
                <p:cNvPr id="834" name=""/>
                <p:cNvSpPr/>
                <p:nvPr/>
              </p:nvSpPr>
              <p:spPr>
                <a:xfrm>
                  <a:off x="6337440" y="882720"/>
                  <a:ext cx="936360" cy="9360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6834240" y="996480"/>
                  <a:ext cx="0" cy="8802360"/>
                </a:xfrm>
                <a:prstGeom prst="line">
                  <a:avLst/>
                </a:prstGeom>
                <a:ln w="3240">
                  <a:solidFill>
                    <a:srgbClr val="3333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6600960" y="952200"/>
                  <a:ext cx="0" cy="88020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7070760" y="1039680"/>
                  <a:ext cx="0" cy="88023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8" name=""/>
              <p:cNvSpPr/>
              <p:nvPr/>
            </p:nvSpPr>
            <p:spPr>
              <a:xfrm>
                <a:off x="6337440" y="1021320"/>
                <a:ext cx="936360" cy="34488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74920"/>
                    <a:tab algn="l" pos="2949480"/>
                    <a:tab algn="l" pos="4424400"/>
                    <a:tab algn="l" pos="5899320"/>
                    <a:tab algn="l" pos="7373880"/>
                    <a:tab algn="l" pos="8848800"/>
                    <a:tab algn="l" pos="1032336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"/>
            <p:cNvGrpSpPr/>
            <p:nvPr/>
          </p:nvGrpSpPr>
          <p:grpSpPr>
            <a:xfrm>
              <a:off x="7346880" y="882720"/>
              <a:ext cx="936720" cy="9360000"/>
              <a:chOff x="7346880" y="882720"/>
              <a:chExt cx="936720" cy="9360000"/>
            </a:xfrm>
          </p:grpSpPr>
          <p:grpSp>
            <p:nvGrpSpPr>
              <p:cNvPr id="840" name=""/>
              <p:cNvGrpSpPr/>
              <p:nvPr/>
            </p:nvGrpSpPr>
            <p:grpSpPr>
              <a:xfrm>
                <a:off x="7346880" y="882720"/>
                <a:ext cx="936720" cy="9360000"/>
                <a:chOff x="7346880" y="882720"/>
                <a:chExt cx="936720" cy="9360000"/>
              </a:xfrm>
            </p:grpSpPr>
            <p:sp>
              <p:nvSpPr>
                <p:cNvPr id="841" name=""/>
                <p:cNvSpPr/>
                <p:nvPr/>
              </p:nvSpPr>
              <p:spPr>
                <a:xfrm>
                  <a:off x="7346880" y="882720"/>
                  <a:ext cx="936720" cy="9360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7844040" y="996480"/>
                  <a:ext cx="0" cy="8802360"/>
                </a:xfrm>
                <a:prstGeom prst="line">
                  <a:avLst/>
                </a:prstGeom>
                <a:ln w="3240">
                  <a:solidFill>
                    <a:srgbClr val="3333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7610400" y="952200"/>
                  <a:ext cx="0" cy="88020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8080560" y="1039680"/>
                  <a:ext cx="0" cy="88023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5" name=""/>
              <p:cNvSpPr/>
              <p:nvPr/>
            </p:nvSpPr>
            <p:spPr>
              <a:xfrm>
                <a:off x="7346880" y="1021320"/>
                <a:ext cx="936720" cy="34488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74920"/>
                    <a:tab algn="l" pos="2949480"/>
                    <a:tab algn="l" pos="4424400"/>
                    <a:tab algn="l" pos="5899320"/>
                    <a:tab algn="l" pos="7373880"/>
                    <a:tab algn="l" pos="8848800"/>
                    <a:tab algn="l" pos="1032336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6" name=""/>
            <p:cNvGrpSpPr/>
            <p:nvPr/>
          </p:nvGrpSpPr>
          <p:grpSpPr>
            <a:xfrm>
              <a:off x="8354880" y="882720"/>
              <a:ext cx="936720" cy="9360000"/>
              <a:chOff x="8354880" y="882720"/>
              <a:chExt cx="936720" cy="9360000"/>
            </a:xfrm>
          </p:grpSpPr>
          <p:grpSp>
            <p:nvGrpSpPr>
              <p:cNvPr id="847" name=""/>
              <p:cNvGrpSpPr/>
              <p:nvPr/>
            </p:nvGrpSpPr>
            <p:grpSpPr>
              <a:xfrm>
                <a:off x="8354880" y="882720"/>
                <a:ext cx="936720" cy="9360000"/>
                <a:chOff x="8354880" y="882720"/>
                <a:chExt cx="936720" cy="936000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8354880" y="882720"/>
                  <a:ext cx="936720" cy="9360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8852040" y="996480"/>
                  <a:ext cx="0" cy="8802360"/>
                </a:xfrm>
                <a:prstGeom prst="line">
                  <a:avLst/>
                </a:prstGeom>
                <a:ln w="3240">
                  <a:solidFill>
                    <a:srgbClr val="3333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8618400" y="952200"/>
                  <a:ext cx="0" cy="88020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9088560" y="1039680"/>
                  <a:ext cx="0" cy="88023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2" name=""/>
              <p:cNvSpPr/>
              <p:nvPr/>
            </p:nvSpPr>
            <p:spPr>
              <a:xfrm>
                <a:off x="8354880" y="1021320"/>
                <a:ext cx="936720" cy="34488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74920"/>
                    <a:tab algn="l" pos="2949480"/>
                    <a:tab algn="l" pos="4424400"/>
                    <a:tab algn="l" pos="5899320"/>
                    <a:tab algn="l" pos="7373880"/>
                    <a:tab algn="l" pos="8848800"/>
                    <a:tab algn="l" pos="1032336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9363240" y="882720"/>
              <a:ext cx="936360" cy="9360000"/>
              <a:chOff x="9363240" y="882720"/>
              <a:chExt cx="936360" cy="9360000"/>
            </a:xfrm>
          </p:grpSpPr>
          <p:grpSp>
            <p:nvGrpSpPr>
              <p:cNvPr id="854" name=""/>
              <p:cNvGrpSpPr/>
              <p:nvPr/>
            </p:nvGrpSpPr>
            <p:grpSpPr>
              <a:xfrm>
                <a:off x="9363240" y="882720"/>
                <a:ext cx="936360" cy="9360000"/>
                <a:chOff x="9363240" y="882720"/>
                <a:chExt cx="936360" cy="9360000"/>
              </a:xfrm>
            </p:grpSpPr>
            <p:sp>
              <p:nvSpPr>
                <p:cNvPr id="855" name=""/>
                <p:cNvSpPr/>
                <p:nvPr/>
              </p:nvSpPr>
              <p:spPr>
                <a:xfrm>
                  <a:off x="9363240" y="882720"/>
                  <a:ext cx="936360" cy="9360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9860040" y="996480"/>
                  <a:ext cx="0" cy="8802360"/>
                </a:xfrm>
                <a:prstGeom prst="line">
                  <a:avLst/>
                </a:prstGeom>
                <a:ln w="3240">
                  <a:solidFill>
                    <a:srgbClr val="3333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9626760" y="952200"/>
                  <a:ext cx="0" cy="88020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10096560" y="1039680"/>
                  <a:ext cx="0" cy="88023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"/>
              <p:cNvSpPr/>
              <p:nvPr/>
            </p:nvSpPr>
            <p:spPr>
              <a:xfrm>
                <a:off x="9363240" y="1021320"/>
                <a:ext cx="936360" cy="34488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74920"/>
                    <a:tab algn="l" pos="2949480"/>
                    <a:tab algn="l" pos="4424400"/>
                    <a:tab algn="l" pos="5899320"/>
                    <a:tab algn="l" pos="7373880"/>
                    <a:tab algn="l" pos="8848800"/>
                    <a:tab algn="l" pos="1032336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0" name=""/>
            <p:cNvGrpSpPr/>
            <p:nvPr/>
          </p:nvGrpSpPr>
          <p:grpSpPr>
            <a:xfrm>
              <a:off x="10369440" y="882720"/>
              <a:ext cx="936720" cy="9360000"/>
              <a:chOff x="10369440" y="882720"/>
              <a:chExt cx="936720" cy="9360000"/>
            </a:xfrm>
          </p:grpSpPr>
          <p:grpSp>
            <p:nvGrpSpPr>
              <p:cNvPr id="861" name=""/>
              <p:cNvGrpSpPr/>
              <p:nvPr/>
            </p:nvGrpSpPr>
            <p:grpSpPr>
              <a:xfrm>
                <a:off x="10369440" y="882720"/>
                <a:ext cx="936720" cy="9360000"/>
                <a:chOff x="10369440" y="882720"/>
                <a:chExt cx="936720" cy="9360000"/>
              </a:xfrm>
            </p:grpSpPr>
            <p:sp>
              <p:nvSpPr>
                <p:cNvPr id="862" name=""/>
                <p:cNvSpPr/>
                <p:nvPr/>
              </p:nvSpPr>
              <p:spPr>
                <a:xfrm>
                  <a:off x="10369440" y="882720"/>
                  <a:ext cx="936720" cy="9360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10866600" y="996480"/>
                  <a:ext cx="0" cy="8802360"/>
                </a:xfrm>
                <a:prstGeom prst="line">
                  <a:avLst/>
                </a:prstGeom>
                <a:ln w="3240">
                  <a:solidFill>
                    <a:srgbClr val="3333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10632960" y="952200"/>
                  <a:ext cx="0" cy="88020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11103120" y="1039680"/>
                  <a:ext cx="0" cy="88023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6" name=""/>
              <p:cNvSpPr/>
              <p:nvPr/>
            </p:nvSpPr>
            <p:spPr>
              <a:xfrm>
                <a:off x="10369440" y="1021320"/>
                <a:ext cx="936720" cy="34488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74920"/>
                    <a:tab algn="l" pos="2949480"/>
                    <a:tab algn="l" pos="4424400"/>
                    <a:tab algn="l" pos="5899320"/>
                    <a:tab algn="l" pos="7373880"/>
                    <a:tab algn="l" pos="8848800"/>
                    <a:tab algn="l" pos="1032336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7" name=""/>
            <p:cNvGrpSpPr/>
            <p:nvPr/>
          </p:nvGrpSpPr>
          <p:grpSpPr>
            <a:xfrm>
              <a:off x="11379240" y="882720"/>
              <a:ext cx="936720" cy="9360000"/>
              <a:chOff x="11379240" y="882720"/>
              <a:chExt cx="936720" cy="9360000"/>
            </a:xfrm>
          </p:grpSpPr>
          <p:grpSp>
            <p:nvGrpSpPr>
              <p:cNvPr id="868" name=""/>
              <p:cNvGrpSpPr/>
              <p:nvPr/>
            </p:nvGrpSpPr>
            <p:grpSpPr>
              <a:xfrm>
                <a:off x="11379240" y="882720"/>
                <a:ext cx="936720" cy="9360000"/>
                <a:chOff x="11379240" y="882720"/>
                <a:chExt cx="936720" cy="9360000"/>
              </a:xfrm>
            </p:grpSpPr>
            <p:sp>
              <p:nvSpPr>
                <p:cNvPr id="869" name=""/>
                <p:cNvSpPr/>
                <p:nvPr/>
              </p:nvSpPr>
              <p:spPr>
                <a:xfrm>
                  <a:off x="11379240" y="882720"/>
                  <a:ext cx="936720" cy="9360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11876400" y="996480"/>
                  <a:ext cx="0" cy="8802360"/>
                </a:xfrm>
                <a:prstGeom prst="line">
                  <a:avLst/>
                </a:prstGeom>
                <a:ln w="3240">
                  <a:solidFill>
                    <a:srgbClr val="3333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11642760" y="952200"/>
                  <a:ext cx="0" cy="88020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12112920" y="1039680"/>
                  <a:ext cx="0" cy="88023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3" name=""/>
              <p:cNvSpPr/>
              <p:nvPr/>
            </p:nvSpPr>
            <p:spPr>
              <a:xfrm>
                <a:off x="11379240" y="1021320"/>
                <a:ext cx="936720" cy="34488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74920"/>
                    <a:tab algn="l" pos="2949480"/>
                    <a:tab algn="l" pos="4424400"/>
                    <a:tab algn="l" pos="5899320"/>
                    <a:tab algn="l" pos="7373880"/>
                    <a:tab algn="l" pos="8848800"/>
                    <a:tab algn="l" pos="1032336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4" name=""/>
            <p:cNvGrpSpPr/>
            <p:nvPr/>
          </p:nvGrpSpPr>
          <p:grpSpPr>
            <a:xfrm>
              <a:off x="12387240" y="882720"/>
              <a:ext cx="936720" cy="9360000"/>
              <a:chOff x="12387240" y="882720"/>
              <a:chExt cx="936720" cy="9360000"/>
            </a:xfrm>
          </p:grpSpPr>
          <p:grpSp>
            <p:nvGrpSpPr>
              <p:cNvPr id="875" name=""/>
              <p:cNvGrpSpPr/>
              <p:nvPr/>
            </p:nvGrpSpPr>
            <p:grpSpPr>
              <a:xfrm>
                <a:off x="12387240" y="882720"/>
                <a:ext cx="936720" cy="9360000"/>
                <a:chOff x="12387240" y="882720"/>
                <a:chExt cx="936720" cy="9360000"/>
              </a:xfrm>
            </p:grpSpPr>
            <p:sp>
              <p:nvSpPr>
                <p:cNvPr id="876" name=""/>
                <p:cNvSpPr/>
                <p:nvPr/>
              </p:nvSpPr>
              <p:spPr>
                <a:xfrm>
                  <a:off x="12387240" y="882720"/>
                  <a:ext cx="936720" cy="9360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12884400" y="996480"/>
                  <a:ext cx="0" cy="8802360"/>
                </a:xfrm>
                <a:prstGeom prst="line">
                  <a:avLst/>
                </a:prstGeom>
                <a:ln w="3240">
                  <a:solidFill>
                    <a:srgbClr val="3333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12650760" y="952200"/>
                  <a:ext cx="0" cy="88020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13120920" y="1039680"/>
                  <a:ext cx="0" cy="88023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0" name=""/>
              <p:cNvSpPr/>
              <p:nvPr/>
            </p:nvSpPr>
            <p:spPr>
              <a:xfrm>
                <a:off x="12387240" y="1021320"/>
                <a:ext cx="936720" cy="34488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74920"/>
                    <a:tab algn="l" pos="2949480"/>
                    <a:tab algn="l" pos="4424400"/>
                    <a:tab algn="l" pos="5899320"/>
                    <a:tab algn="l" pos="7373880"/>
                    <a:tab algn="l" pos="8848800"/>
                    <a:tab algn="l" pos="1032336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"/>
            <p:cNvGrpSpPr/>
            <p:nvPr/>
          </p:nvGrpSpPr>
          <p:grpSpPr>
            <a:xfrm>
              <a:off x="13395240" y="882720"/>
              <a:ext cx="936720" cy="9360000"/>
              <a:chOff x="13395240" y="882720"/>
              <a:chExt cx="936720" cy="9360000"/>
            </a:xfrm>
          </p:grpSpPr>
          <p:grpSp>
            <p:nvGrpSpPr>
              <p:cNvPr id="882" name=""/>
              <p:cNvGrpSpPr/>
              <p:nvPr/>
            </p:nvGrpSpPr>
            <p:grpSpPr>
              <a:xfrm>
                <a:off x="13395240" y="882720"/>
                <a:ext cx="936720" cy="9360000"/>
                <a:chOff x="13395240" y="882720"/>
                <a:chExt cx="936720" cy="9360000"/>
              </a:xfrm>
            </p:grpSpPr>
            <p:sp>
              <p:nvSpPr>
                <p:cNvPr id="883" name=""/>
                <p:cNvSpPr/>
                <p:nvPr/>
              </p:nvSpPr>
              <p:spPr>
                <a:xfrm>
                  <a:off x="13395240" y="882720"/>
                  <a:ext cx="936720" cy="9360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13892400" y="996480"/>
                  <a:ext cx="0" cy="8802360"/>
                </a:xfrm>
                <a:prstGeom prst="line">
                  <a:avLst/>
                </a:prstGeom>
                <a:ln w="3240">
                  <a:solidFill>
                    <a:srgbClr val="3333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13658760" y="952200"/>
                  <a:ext cx="0" cy="88020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14128920" y="1039680"/>
                  <a:ext cx="0" cy="88023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7" name=""/>
              <p:cNvSpPr/>
              <p:nvPr/>
            </p:nvSpPr>
            <p:spPr>
              <a:xfrm>
                <a:off x="13395240" y="1021320"/>
                <a:ext cx="936720" cy="34488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74920"/>
                    <a:tab algn="l" pos="2949480"/>
                    <a:tab algn="l" pos="4424400"/>
                    <a:tab algn="l" pos="5899320"/>
                    <a:tab algn="l" pos="7373880"/>
                    <a:tab algn="l" pos="8848800"/>
                    <a:tab algn="l" pos="1032336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8" name=""/>
          <p:cNvSpPr/>
          <p:nvPr/>
        </p:nvSpPr>
        <p:spPr>
          <a:xfrm>
            <a:off x="2363760" y="1962000"/>
            <a:ext cx="838080" cy="16524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376360" y="1746360"/>
            <a:ext cx="424080" cy="8244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2376360" y="1530360"/>
            <a:ext cx="187560" cy="3636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376360" y="2178000"/>
            <a:ext cx="1839960" cy="204840"/>
          </a:xfrm>
          <a:custGeom>
            <a:avLst/>
            <a:gdLst/>
            <a:ahLst/>
            <a:rect l="l" t="t" r="r" b="b"/>
            <a:pathLst>
              <a:path w="1159" h="129">
                <a:moveTo>
                  <a:pt x="0" y="0"/>
                </a:moveTo>
                <a:lnTo>
                  <a:pt x="527" y="105"/>
                </a:lnTo>
                <a:lnTo>
                  <a:pt x="623" y="25"/>
                </a:lnTo>
                <a:lnTo>
                  <a:pt x="1159" y="129"/>
                </a:lnTo>
              </a:path>
            </a:pathLst>
          </a:custGeom>
          <a:noFill/>
          <a:ln w="28440">
            <a:solidFill>
              <a:srgbClr val="ff66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376360" y="2394000"/>
            <a:ext cx="2837160" cy="198360"/>
          </a:xfrm>
          <a:custGeom>
            <a:avLst/>
            <a:gdLst/>
            <a:ahLst/>
            <a:rect l="l" t="t" r="r" b="b"/>
            <a:pathLst>
              <a:path w="1787" h="125">
                <a:moveTo>
                  <a:pt x="0" y="0"/>
                </a:moveTo>
                <a:lnTo>
                  <a:pt x="515" y="101"/>
                </a:lnTo>
                <a:lnTo>
                  <a:pt x="623" y="9"/>
                </a:lnTo>
                <a:lnTo>
                  <a:pt x="1155" y="117"/>
                </a:lnTo>
                <a:lnTo>
                  <a:pt x="1259" y="21"/>
                </a:lnTo>
                <a:lnTo>
                  <a:pt x="1787" y="125"/>
                </a:lnTo>
              </a:path>
            </a:pathLst>
          </a:custGeom>
          <a:noFill/>
          <a:ln w="28440">
            <a:solidFill>
              <a:srgbClr val="ff66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576360" y="5327640"/>
            <a:ext cx="13723920" cy="565200"/>
          </a:xfrm>
          <a:custGeom>
            <a:avLst/>
            <a:gdLst/>
            <a:ahLst/>
            <a:rect l="l" t="t" r="r" b="b"/>
            <a:pathLst>
              <a:path w="8645" h="356">
                <a:moveTo>
                  <a:pt x="0" y="0"/>
                </a:moveTo>
                <a:lnTo>
                  <a:pt x="997" y="196"/>
                </a:lnTo>
                <a:lnTo>
                  <a:pt x="1117" y="100"/>
                </a:lnTo>
                <a:lnTo>
                  <a:pt x="1645" y="212"/>
                </a:lnTo>
                <a:lnTo>
                  <a:pt x="1749" y="116"/>
                </a:lnTo>
                <a:lnTo>
                  <a:pt x="2285" y="220"/>
                </a:lnTo>
                <a:lnTo>
                  <a:pt x="2397" y="124"/>
                </a:lnTo>
                <a:lnTo>
                  <a:pt x="2917" y="228"/>
                </a:lnTo>
                <a:lnTo>
                  <a:pt x="3021" y="140"/>
                </a:lnTo>
                <a:lnTo>
                  <a:pt x="3565" y="260"/>
                </a:lnTo>
                <a:lnTo>
                  <a:pt x="3653" y="180"/>
                </a:lnTo>
                <a:lnTo>
                  <a:pt x="4197" y="308"/>
                </a:lnTo>
                <a:lnTo>
                  <a:pt x="4293" y="204"/>
                </a:lnTo>
                <a:lnTo>
                  <a:pt x="4829" y="332"/>
                </a:lnTo>
                <a:lnTo>
                  <a:pt x="4925" y="220"/>
                </a:lnTo>
                <a:lnTo>
                  <a:pt x="5469" y="340"/>
                </a:lnTo>
                <a:lnTo>
                  <a:pt x="5565" y="236"/>
                </a:lnTo>
                <a:lnTo>
                  <a:pt x="6101" y="348"/>
                </a:lnTo>
                <a:lnTo>
                  <a:pt x="6205" y="228"/>
                </a:lnTo>
                <a:lnTo>
                  <a:pt x="6725" y="332"/>
                </a:lnTo>
                <a:lnTo>
                  <a:pt x="6829" y="228"/>
                </a:lnTo>
                <a:lnTo>
                  <a:pt x="7373" y="340"/>
                </a:lnTo>
                <a:lnTo>
                  <a:pt x="7469" y="220"/>
                </a:lnTo>
                <a:lnTo>
                  <a:pt x="7997" y="332"/>
                </a:lnTo>
                <a:lnTo>
                  <a:pt x="8101" y="228"/>
                </a:lnTo>
                <a:lnTo>
                  <a:pt x="8645" y="356"/>
                </a:lnTo>
              </a:path>
            </a:pathLst>
          </a:custGeom>
          <a:noFill/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76360" y="7439040"/>
            <a:ext cx="13723920" cy="565200"/>
          </a:xfrm>
          <a:custGeom>
            <a:avLst/>
            <a:gdLst/>
            <a:ahLst/>
            <a:rect l="l" t="t" r="r" b="b"/>
            <a:pathLst>
              <a:path w="8645" h="356">
                <a:moveTo>
                  <a:pt x="0" y="0"/>
                </a:moveTo>
                <a:lnTo>
                  <a:pt x="997" y="196"/>
                </a:lnTo>
                <a:lnTo>
                  <a:pt x="1117" y="100"/>
                </a:lnTo>
                <a:lnTo>
                  <a:pt x="1645" y="212"/>
                </a:lnTo>
                <a:lnTo>
                  <a:pt x="1749" y="116"/>
                </a:lnTo>
                <a:lnTo>
                  <a:pt x="2285" y="220"/>
                </a:lnTo>
                <a:lnTo>
                  <a:pt x="2397" y="124"/>
                </a:lnTo>
                <a:lnTo>
                  <a:pt x="2917" y="228"/>
                </a:lnTo>
                <a:lnTo>
                  <a:pt x="3021" y="140"/>
                </a:lnTo>
                <a:lnTo>
                  <a:pt x="3565" y="260"/>
                </a:lnTo>
                <a:lnTo>
                  <a:pt x="3653" y="180"/>
                </a:lnTo>
                <a:lnTo>
                  <a:pt x="4197" y="308"/>
                </a:lnTo>
                <a:lnTo>
                  <a:pt x="4293" y="204"/>
                </a:lnTo>
                <a:lnTo>
                  <a:pt x="4829" y="332"/>
                </a:lnTo>
                <a:lnTo>
                  <a:pt x="4925" y="220"/>
                </a:lnTo>
                <a:lnTo>
                  <a:pt x="5469" y="340"/>
                </a:lnTo>
                <a:lnTo>
                  <a:pt x="5565" y="236"/>
                </a:lnTo>
                <a:lnTo>
                  <a:pt x="6101" y="348"/>
                </a:lnTo>
                <a:lnTo>
                  <a:pt x="6205" y="228"/>
                </a:lnTo>
                <a:lnTo>
                  <a:pt x="6725" y="332"/>
                </a:lnTo>
                <a:lnTo>
                  <a:pt x="6829" y="228"/>
                </a:lnTo>
                <a:lnTo>
                  <a:pt x="7373" y="340"/>
                </a:lnTo>
                <a:lnTo>
                  <a:pt x="7469" y="220"/>
                </a:lnTo>
                <a:lnTo>
                  <a:pt x="7997" y="332"/>
                </a:lnTo>
                <a:lnTo>
                  <a:pt x="8101" y="228"/>
                </a:lnTo>
                <a:lnTo>
                  <a:pt x="8645" y="356"/>
                </a:lnTo>
              </a:path>
            </a:pathLst>
          </a:custGeom>
          <a:noFill/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76360" y="3216240"/>
            <a:ext cx="13723920" cy="565200"/>
          </a:xfrm>
          <a:custGeom>
            <a:avLst/>
            <a:gdLst/>
            <a:ahLst/>
            <a:rect l="l" t="t" r="r" b="b"/>
            <a:pathLst>
              <a:path w="8645" h="356">
                <a:moveTo>
                  <a:pt x="0" y="0"/>
                </a:moveTo>
                <a:lnTo>
                  <a:pt x="997" y="196"/>
                </a:lnTo>
                <a:lnTo>
                  <a:pt x="1117" y="100"/>
                </a:lnTo>
                <a:lnTo>
                  <a:pt x="1645" y="212"/>
                </a:lnTo>
                <a:lnTo>
                  <a:pt x="1749" y="116"/>
                </a:lnTo>
                <a:lnTo>
                  <a:pt x="2285" y="220"/>
                </a:lnTo>
                <a:lnTo>
                  <a:pt x="2397" y="124"/>
                </a:lnTo>
                <a:lnTo>
                  <a:pt x="2917" y="228"/>
                </a:lnTo>
                <a:lnTo>
                  <a:pt x="3021" y="140"/>
                </a:lnTo>
                <a:lnTo>
                  <a:pt x="3565" y="260"/>
                </a:lnTo>
                <a:lnTo>
                  <a:pt x="3653" y="180"/>
                </a:lnTo>
                <a:lnTo>
                  <a:pt x="4197" y="308"/>
                </a:lnTo>
                <a:lnTo>
                  <a:pt x="4293" y="204"/>
                </a:lnTo>
                <a:lnTo>
                  <a:pt x="4829" y="332"/>
                </a:lnTo>
                <a:lnTo>
                  <a:pt x="4925" y="220"/>
                </a:lnTo>
                <a:lnTo>
                  <a:pt x="5469" y="340"/>
                </a:lnTo>
                <a:lnTo>
                  <a:pt x="5565" y="236"/>
                </a:lnTo>
                <a:lnTo>
                  <a:pt x="6101" y="348"/>
                </a:lnTo>
                <a:lnTo>
                  <a:pt x="6205" y="228"/>
                </a:lnTo>
                <a:lnTo>
                  <a:pt x="6725" y="332"/>
                </a:lnTo>
                <a:lnTo>
                  <a:pt x="6829" y="228"/>
                </a:lnTo>
                <a:lnTo>
                  <a:pt x="7373" y="340"/>
                </a:lnTo>
                <a:lnTo>
                  <a:pt x="7469" y="220"/>
                </a:lnTo>
                <a:lnTo>
                  <a:pt x="7997" y="332"/>
                </a:lnTo>
                <a:lnTo>
                  <a:pt x="8101" y="228"/>
                </a:lnTo>
                <a:lnTo>
                  <a:pt x="8645" y="356"/>
                </a:lnTo>
              </a:path>
            </a:pathLst>
          </a:custGeom>
          <a:noFill/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813600" y="14590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メイリオ"/>
              </a:rPr>
              <a:t>プラン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813600" y="34750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メイリオ"/>
              </a:rPr>
              <a:t>プラン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813600" y="56340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メイリオ"/>
              </a:rPr>
              <a:t>プラン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3600" y="77230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メイリオ"/>
              </a:rPr>
              <a:t>プラン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"/>
          <p:cNvGrpSpPr/>
          <p:nvPr/>
        </p:nvGrpSpPr>
        <p:grpSpPr>
          <a:xfrm>
            <a:off x="2303640" y="882720"/>
            <a:ext cx="936360" cy="9360000"/>
            <a:chOff x="2303640" y="882720"/>
            <a:chExt cx="936360" cy="9360000"/>
          </a:xfrm>
        </p:grpSpPr>
        <p:grpSp>
          <p:nvGrpSpPr>
            <p:cNvPr id="901" name=""/>
            <p:cNvGrpSpPr/>
            <p:nvPr/>
          </p:nvGrpSpPr>
          <p:grpSpPr>
            <a:xfrm>
              <a:off x="2303640" y="882720"/>
              <a:ext cx="936360" cy="9360000"/>
              <a:chOff x="2303640" y="882720"/>
              <a:chExt cx="936360" cy="9360000"/>
            </a:xfrm>
          </p:grpSpPr>
          <p:sp>
            <p:nvSpPr>
              <p:cNvPr id="902" name=""/>
              <p:cNvSpPr/>
              <p:nvPr/>
            </p:nvSpPr>
            <p:spPr>
              <a:xfrm>
                <a:off x="2303640" y="882720"/>
                <a:ext cx="936360" cy="9360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10800000"/>
              </a:gra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2800440" y="996480"/>
                <a:ext cx="0" cy="880236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2567160" y="952200"/>
                <a:ext cx="0" cy="880200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036960" y="1039680"/>
                <a:ext cx="0" cy="880236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6" name=""/>
            <p:cNvSpPr/>
            <p:nvPr/>
          </p:nvSpPr>
          <p:spPr>
            <a:xfrm>
              <a:off x="2303640" y="1021320"/>
              <a:ext cx="936360" cy="34488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011/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7" name=""/>
          <p:cNvSpPr/>
          <p:nvPr/>
        </p:nvSpPr>
        <p:spPr>
          <a:xfrm>
            <a:off x="504720" y="809640"/>
            <a:ext cx="1744920" cy="9360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lin ang="10800000"/>
          </a:gradFill>
          <a:ln w="3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3313080" y="882720"/>
            <a:ext cx="936720" cy="9360000"/>
            <a:chOff x="3313080" y="882720"/>
            <a:chExt cx="936720" cy="9360000"/>
          </a:xfrm>
        </p:grpSpPr>
        <p:grpSp>
          <p:nvGrpSpPr>
            <p:cNvPr id="909" name=""/>
            <p:cNvGrpSpPr/>
            <p:nvPr/>
          </p:nvGrpSpPr>
          <p:grpSpPr>
            <a:xfrm>
              <a:off x="3313080" y="882720"/>
              <a:ext cx="936720" cy="9360000"/>
              <a:chOff x="3313080" y="882720"/>
              <a:chExt cx="936720" cy="9360000"/>
            </a:xfrm>
          </p:grpSpPr>
          <p:sp>
            <p:nvSpPr>
              <p:cNvPr id="910" name=""/>
              <p:cNvSpPr/>
              <p:nvPr/>
            </p:nvSpPr>
            <p:spPr>
              <a:xfrm>
                <a:off x="3313080" y="882720"/>
                <a:ext cx="936720" cy="9360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10800000"/>
              </a:gra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810240" y="996480"/>
                <a:ext cx="0" cy="880236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576600" y="952200"/>
                <a:ext cx="0" cy="880200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046760" y="1039680"/>
                <a:ext cx="0" cy="880236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"/>
            <p:cNvSpPr/>
            <p:nvPr/>
          </p:nvSpPr>
          <p:spPr>
            <a:xfrm>
              <a:off x="3313080" y="1021320"/>
              <a:ext cx="936720" cy="34488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4321080" y="882720"/>
            <a:ext cx="936720" cy="9360000"/>
            <a:chOff x="4321080" y="882720"/>
            <a:chExt cx="936720" cy="9360000"/>
          </a:xfrm>
        </p:grpSpPr>
        <p:grpSp>
          <p:nvGrpSpPr>
            <p:cNvPr id="916" name=""/>
            <p:cNvGrpSpPr/>
            <p:nvPr/>
          </p:nvGrpSpPr>
          <p:grpSpPr>
            <a:xfrm>
              <a:off x="4321080" y="882720"/>
              <a:ext cx="936720" cy="9360000"/>
              <a:chOff x="4321080" y="882720"/>
              <a:chExt cx="936720" cy="9360000"/>
            </a:xfrm>
          </p:grpSpPr>
          <p:sp>
            <p:nvSpPr>
              <p:cNvPr id="917" name=""/>
              <p:cNvSpPr/>
              <p:nvPr/>
            </p:nvSpPr>
            <p:spPr>
              <a:xfrm>
                <a:off x="4321080" y="882720"/>
                <a:ext cx="936720" cy="9360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10800000"/>
              </a:gra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818240" y="996480"/>
                <a:ext cx="0" cy="880236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584600" y="952200"/>
                <a:ext cx="0" cy="880200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054760" y="1039680"/>
                <a:ext cx="0" cy="880236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1" name=""/>
            <p:cNvSpPr/>
            <p:nvPr/>
          </p:nvSpPr>
          <p:spPr>
            <a:xfrm>
              <a:off x="4321080" y="1021320"/>
              <a:ext cx="936720" cy="34488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5329080" y="882720"/>
            <a:ext cx="936720" cy="9360000"/>
            <a:chOff x="5329080" y="882720"/>
            <a:chExt cx="936720" cy="9360000"/>
          </a:xfrm>
        </p:grpSpPr>
        <p:grpSp>
          <p:nvGrpSpPr>
            <p:cNvPr id="923" name=""/>
            <p:cNvGrpSpPr/>
            <p:nvPr/>
          </p:nvGrpSpPr>
          <p:grpSpPr>
            <a:xfrm>
              <a:off x="5329080" y="882720"/>
              <a:ext cx="936720" cy="9360000"/>
              <a:chOff x="5329080" y="882720"/>
              <a:chExt cx="936720" cy="9360000"/>
            </a:xfrm>
          </p:grpSpPr>
          <p:sp>
            <p:nvSpPr>
              <p:cNvPr id="924" name=""/>
              <p:cNvSpPr/>
              <p:nvPr/>
            </p:nvSpPr>
            <p:spPr>
              <a:xfrm>
                <a:off x="5329080" y="882720"/>
                <a:ext cx="936720" cy="9360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10800000"/>
              </a:gra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826240" y="996480"/>
                <a:ext cx="0" cy="880236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592600" y="952200"/>
                <a:ext cx="0" cy="880200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6062760" y="1039680"/>
                <a:ext cx="0" cy="880236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8" name=""/>
            <p:cNvSpPr/>
            <p:nvPr/>
          </p:nvSpPr>
          <p:spPr>
            <a:xfrm>
              <a:off x="5329080" y="1021320"/>
              <a:ext cx="936720" cy="34488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6337440" y="882720"/>
            <a:ext cx="936360" cy="9360000"/>
            <a:chOff x="6337440" y="882720"/>
            <a:chExt cx="936360" cy="9360000"/>
          </a:xfrm>
        </p:grpSpPr>
        <p:grpSp>
          <p:nvGrpSpPr>
            <p:cNvPr id="930" name=""/>
            <p:cNvGrpSpPr/>
            <p:nvPr/>
          </p:nvGrpSpPr>
          <p:grpSpPr>
            <a:xfrm>
              <a:off x="6337440" y="882720"/>
              <a:ext cx="936360" cy="9360000"/>
              <a:chOff x="6337440" y="882720"/>
              <a:chExt cx="936360" cy="9360000"/>
            </a:xfrm>
          </p:grpSpPr>
          <p:sp>
            <p:nvSpPr>
              <p:cNvPr id="931" name=""/>
              <p:cNvSpPr/>
              <p:nvPr/>
            </p:nvSpPr>
            <p:spPr>
              <a:xfrm>
                <a:off x="6337440" y="882720"/>
                <a:ext cx="936360" cy="9360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10800000"/>
              </a:gra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6834240" y="996480"/>
                <a:ext cx="0" cy="880236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6600960" y="952200"/>
                <a:ext cx="0" cy="880200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070760" y="1039680"/>
                <a:ext cx="0" cy="880236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5" name=""/>
            <p:cNvSpPr/>
            <p:nvPr/>
          </p:nvSpPr>
          <p:spPr>
            <a:xfrm>
              <a:off x="6337440" y="1021320"/>
              <a:ext cx="936360" cy="34488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6" name=""/>
          <p:cNvGrpSpPr/>
          <p:nvPr/>
        </p:nvGrpSpPr>
        <p:grpSpPr>
          <a:xfrm>
            <a:off x="7346880" y="882720"/>
            <a:ext cx="936720" cy="9360000"/>
            <a:chOff x="7346880" y="882720"/>
            <a:chExt cx="936720" cy="9360000"/>
          </a:xfrm>
        </p:grpSpPr>
        <p:grpSp>
          <p:nvGrpSpPr>
            <p:cNvPr id="937" name=""/>
            <p:cNvGrpSpPr/>
            <p:nvPr/>
          </p:nvGrpSpPr>
          <p:grpSpPr>
            <a:xfrm>
              <a:off x="7346880" y="882720"/>
              <a:ext cx="936720" cy="9360000"/>
              <a:chOff x="7346880" y="882720"/>
              <a:chExt cx="936720" cy="9360000"/>
            </a:xfrm>
          </p:grpSpPr>
          <p:sp>
            <p:nvSpPr>
              <p:cNvPr id="938" name=""/>
              <p:cNvSpPr/>
              <p:nvPr/>
            </p:nvSpPr>
            <p:spPr>
              <a:xfrm>
                <a:off x="7346880" y="882720"/>
                <a:ext cx="936720" cy="9360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10800000"/>
              </a:gra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844040" y="996480"/>
                <a:ext cx="0" cy="880236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10400" y="952200"/>
                <a:ext cx="0" cy="880200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8080560" y="1039680"/>
                <a:ext cx="0" cy="880236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2" name=""/>
            <p:cNvSpPr/>
            <p:nvPr/>
          </p:nvSpPr>
          <p:spPr>
            <a:xfrm>
              <a:off x="7346880" y="1021320"/>
              <a:ext cx="936720" cy="34488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8354880" y="882720"/>
            <a:ext cx="936720" cy="9360000"/>
            <a:chOff x="8354880" y="882720"/>
            <a:chExt cx="936720" cy="9360000"/>
          </a:xfrm>
        </p:grpSpPr>
        <p:grpSp>
          <p:nvGrpSpPr>
            <p:cNvPr id="944" name=""/>
            <p:cNvGrpSpPr/>
            <p:nvPr/>
          </p:nvGrpSpPr>
          <p:grpSpPr>
            <a:xfrm>
              <a:off x="8354880" y="882720"/>
              <a:ext cx="936720" cy="9360000"/>
              <a:chOff x="8354880" y="882720"/>
              <a:chExt cx="936720" cy="9360000"/>
            </a:xfrm>
          </p:grpSpPr>
          <p:sp>
            <p:nvSpPr>
              <p:cNvPr id="945" name=""/>
              <p:cNvSpPr/>
              <p:nvPr/>
            </p:nvSpPr>
            <p:spPr>
              <a:xfrm>
                <a:off x="8354880" y="882720"/>
                <a:ext cx="936720" cy="9360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10800000"/>
              </a:gra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8852040" y="996480"/>
                <a:ext cx="0" cy="880236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8618400" y="952200"/>
                <a:ext cx="0" cy="880200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9088560" y="1039680"/>
                <a:ext cx="0" cy="880236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9" name=""/>
            <p:cNvSpPr/>
            <p:nvPr/>
          </p:nvSpPr>
          <p:spPr>
            <a:xfrm>
              <a:off x="8354880" y="1021320"/>
              <a:ext cx="936720" cy="34488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9363240" y="882720"/>
            <a:ext cx="936360" cy="9360000"/>
            <a:chOff x="9363240" y="882720"/>
            <a:chExt cx="936360" cy="9360000"/>
          </a:xfrm>
        </p:grpSpPr>
        <p:grpSp>
          <p:nvGrpSpPr>
            <p:cNvPr id="951" name=""/>
            <p:cNvGrpSpPr/>
            <p:nvPr/>
          </p:nvGrpSpPr>
          <p:grpSpPr>
            <a:xfrm>
              <a:off x="9363240" y="882720"/>
              <a:ext cx="936360" cy="9360000"/>
              <a:chOff x="9363240" y="882720"/>
              <a:chExt cx="936360" cy="9360000"/>
            </a:xfrm>
          </p:grpSpPr>
          <p:sp>
            <p:nvSpPr>
              <p:cNvPr id="952" name=""/>
              <p:cNvSpPr/>
              <p:nvPr/>
            </p:nvSpPr>
            <p:spPr>
              <a:xfrm>
                <a:off x="9363240" y="882720"/>
                <a:ext cx="936360" cy="9360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10800000"/>
              </a:gra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9860040" y="996480"/>
                <a:ext cx="0" cy="880236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9626760" y="952200"/>
                <a:ext cx="0" cy="880200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10096560" y="1039680"/>
                <a:ext cx="0" cy="880236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"/>
            <p:cNvSpPr/>
            <p:nvPr/>
          </p:nvSpPr>
          <p:spPr>
            <a:xfrm>
              <a:off x="9363240" y="1021320"/>
              <a:ext cx="936360" cy="34488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10369440" y="882720"/>
            <a:ext cx="936720" cy="9360000"/>
            <a:chOff x="10369440" y="882720"/>
            <a:chExt cx="936720" cy="9360000"/>
          </a:xfrm>
        </p:grpSpPr>
        <p:grpSp>
          <p:nvGrpSpPr>
            <p:cNvPr id="958" name=""/>
            <p:cNvGrpSpPr/>
            <p:nvPr/>
          </p:nvGrpSpPr>
          <p:grpSpPr>
            <a:xfrm>
              <a:off x="10369440" y="882720"/>
              <a:ext cx="936720" cy="9360000"/>
              <a:chOff x="10369440" y="882720"/>
              <a:chExt cx="936720" cy="9360000"/>
            </a:xfrm>
          </p:grpSpPr>
          <p:sp>
            <p:nvSpPr>
              <p:cNvPr id="959" name=""/>
              <p:cNvSpPr/>
              <p:nvPr/>
            </p:nvSpPr>
            <p:spPr>
              <a:xfrm>
                <a:off x="10369440" y="882720"/>
                <a:ext cx="936720" cy="9360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10800000"/>
              </a:gra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10866600" y="996480"/>
                <a:ext cx="0" cy="880236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10632960" y="952200"/>
                <a:ext cx="0" cy="880200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1103120" y="1039680"/>
                <a:ext cx="0" cy="880236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3" name=""/>
            <p:cNvSpPr/>
            <p:nvPr/>
          </p:nvSpPr>
          <p:spPr>
            <a:xfrm>
              <a:off x="10369440" y="1021320"/>
              <a:ext cx="936720" cy="34488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11379240" y="882720"/>
            <a:ext cx="936720" cy="9360000"/>
            <a:chOff x="11379240" y="882720"/>
            <a:chExt cx="936720" cy="9360000"/>
          </a:xfrm>
        </p:grpSpPr>
        <p:grpSp>
          <p:nvGrpSpPr>
            <p:cNvPr id="965" name=""/>
            <p:cNvGrpSpPr/>
            <p:nvPr/>
          </p:nvGrpSpPr>
          <p:grpSpPr>
            <a:xfrm>
              <a:off x="11379240" y="882720"/>
              <a:ext cx="936720" cy="9360000"/>
              <a:chOff x="11379240" y="882720"/>
              <a:chExt cx="936720" cy="9360000"/>
            </a:xfrm>
          </p:grpSpPr>
          <p:sp>
            <p:nvSpPr>
              <p:cNvPr id="966" name=""/>
              <p:cNvSpPr/>
              <p:nvPr/>
            </p:nvSpPr>
            <p:spPr>
              <a:xfrm>
                <a:off x="11379240" y="882720"/>
                <a:ext cx="936720" cy="9360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10800000"/>
              </a:gra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1876400" y="996480"/>
                <a:ext cx="0" cy="880236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11642760" y="952200"/>
                <a:ext cx="0" cy="880200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12112920" y="1039680"/>
                <a:ext cx="0" cy="880236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0" name=""/>
            <p:cNvSpPr/>
            <p:nvPr/>
          </p:nvSpPr>
          <p:spPr>
            <a:xfrm>
              <a:off x="11379240" y="1021320"/>
              <a:ext cx="936720" cy="34488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12387240" y="882720"/>
            <a:ext cx="936720" cy="9360000"/>
            <a:chOff x="12387240" y="882720"/>
            <a:chExt cx="936720" cy="9360000"/>
          </a:xfrm>
        </p:grpSpPr>
        <p:grpSp>
          <p:nvGrpSpPr>
            <p:cNvPr id="972" name=""/>
            <p:cNvGrpSpPr/>
            <p:nvPr/>
          </p:nvGrpSpPr>
          <p:grpSpPr>
            <a:xfrm>
              <a:off x="12387240" y="882720"/>
              <a:ext cx="936720" cy="9360000"/>
              <a:chOff x="12387240" y="882720"/>
              <a:chExt cx="936720" cy="9360000"/>
            </a:xfrm>
          </p:grpSpPr>
          <p:sp>
            <p:nvSpPr>
              <p:cNvPr id="973" name=""/>
              <p:cNvSpPr/>
              <p:nvPr/>
            </p:nvSpPr>
            <p:spPr>
              <a:xfrm>
                <a:off x="12387240" y="882720"/>
                <a:ext cx="936720" cy="9360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10800000"/>
              </a:gra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12884400" y="996480"/>
                <a:ext cx="0" cy="880236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12650760" y="952200"/>
                <a:ext cx="0" cy="880200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13120920" y="1039680"/>
                <a:ext cx="0" cy="880236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7" name=""/>
            <p:cNvSpPr/>
            <p:nvPr/>
          </p:nvSpPr>
          <p:spPr>
            <a:xfrm>
              <a:off x="12387240" y="1021320"/>
              <a:ext cx="936720" cy="34488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8" name=""/>
          <p:cNvGrpSpPr/>
          <p:nvPr/>
        </p:nvGrpSpPr>
        <p:grpSpPr>
          <a:xfrm>
            <a:off x="13395240" y="882720"/>
            <a:ext cx="936720" cy="9360000"/>
            <a:chOff x="13395240" y="882720"/>
            <a:chExt cx="936720" cy="9360000"/>
          </a:xfrm>
        </p:grpSpPr>
        <p:grpSp>
          <p:nvGrpSpPr>
            <p:cNvPr id="979" name=""/>
            <p:cNvGrpSpPr/>
            <p:nvPr/>
          </p:nvGrpSpPr>
          <p:grpSpPr>
            <a:xfrm>
              <a:off x="13395240" y="882720"/>
              <a:ext cx="936720" cy="9360000"/>
              <a:chOff x="13395240" y="882720"/>
              <a:chExt cx="936720" cy="9360000"/>
            </a:xfrm>
          </p:grpSpPr>
          <p:sp>
            <p:nvSpPr>
              <p:cNvPr id="980" name=""/>
              <p:cNvSpPr/>
              <p:nvPr/>
            </p:nvSpPr>
            <p:spPr>
              <a:xfrm>
                <a:off x="13395240" y="882720"/>
                <a:ext cx="936720" cy="9360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10800000"/>
              </a:gra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13892400" y="996480"/>
                <a:ext cx="0" cy="8802360"/>
              </a:xfrm>
              <a:prstGeom prst="line">
                <a:avLst/>
              </a:prstGeom>
              <a:ln w="32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3658760" y="952200"/>
                <a:ext cx="0" cy="880200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4128920" y="1039680"/>
                <a:ext cx="0" cy="8802360"/>
              </a:xfrm>
              <a:prstGeom prst="line">
                <a:avLst/>
              </a:prstGeom>
              <a:ln w="324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4" name=""/>
            <p:cNvSpPr/>
            <p:nvPr/>
          </p:nvSpPr>
          <p:spPr>
            <a:xfrm>
              <a:off x="13395240" y="1021320"/>
              <a:ext cx="936720" cy="34488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5" name=""/>
          <p:cNvSpPr/>
          <p:nvPr/>
        </p:nvSpPr>
        <p:spPr>
          <a:xfrm>
            <a:off x="2363760" y="1962000"/>
            <a:ext cx="838080" cy="165240"/>
          </a:xfrm>
          <a:prstGeom prst="line">
            <a:avLst/>
          </a:prstGeom>
          <a:ln w="28440">
            <a:solidFill>
              <a:srgbClr val="0000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2376360" y="1746360"/>
            <a:ext cx="424080" cy="82440"/>
          </a:xfrm>
          <a:prstGeom prst="line">
            <a:avLst/>
          </a:prstGeom>
          <a:ln w="28440">
            <a:solidFill>
              <a:srgbClr val="0000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2376360" y="1530360"/>
            <a:ext cx="187560" cy="36360"/>
          </a:xfrm>
          <a:prstGeom prst="line">
            <a:avLst/>
          </a:prstGeom>
          <a:ln w="28440">
            <a:solidFill>
              <a:srgbClr val="0000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2376360" y="2178000"/>
            <a:ext cx="1839960" cy="204840"/>
          </a:xfrm>
          <a:custGeom>
            <a:avLst/>
            <a:gdLst/>
            <a:ahLst/>
            <a:rect l="l" t="t" r="r" b="b"/>
            <a:pathLst>
              <a:path w="1159" h="129">
                <a:moveTo>
                  <a:pt x="0" y="0"/>
                </a:moveTo>
                <a:lnTo>
                  <a:pt x="527" y="105"/>
                </a:lnTo>
                <a:lnTo>
                  <a:pt x="623" y="25"/>
                </a:lnTo>
                <a:lnTo>
                  <a:pt x="1159" y="129"/>
                </a:lnTo>
              </a:path>
            </a:pathLst>
          </a:custGeom>
          <a:noFill/>
          <a:ln w="28440">
            <a:solidFill>
              <a:srgbClr val="0000ff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2376360" y="2394000"/>
            <a:ext cx="2837160" cy="198360"/>
          </a:xfrm>
          <a:custGeom>
            <a:avLst/>
            <a:gdLst/>
            <a:ahLst/>
            <a:rect l="l" t="t" r="r" b="b"/>
            <a:pathLst>
              <a:path w="1787" h="125">
                <a:moveTo>
                  <a:pt x="0" y="0"/>
                </a:moveTo>
                <a:lnTo>
                  <a:pt x="515" y="101"/>
                </a:lnTo>
                <a:lnTo>
                  <a:pt x="623" y="9"/>
                </a:lnTo>
                <a:lnTo>
                  <a:pt x="1155" y="117"/>
                </a:lnTo>
                <a:lnTo>
                  <a:pt x="1259" y="21"/>
                </a:lnTo>
                <a:lnTo>
                  <a:pt x="1787" y="125"/>
                </a:lnTo>
              </a:path>
            </a:pathLst>
          </a:custGeom>
          <a:noFill/>
          <a:ln w="28440">
            <a:solidFill>
              <a:srgbClr val="0000ff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76360" y="5327640"/>
            <a:ext cx="13723920" cy="565200"/>
          </a:xfrm>
          <a:custGeom>
            <a:avLst/>
            <a:gdLst/>
            <a:ahLst/>
            <a:rect l="l" t="t" r="r" b="b"/>
            <a:pathLst>
              <a:path w="8645" h="356">
                <a:moveTo>
                  <a:pt x="0" y="0"/>
                </a:moveTo>
                <a:lnTo>
                  <a:pt x="997" y="196"/>
                </a:lnTo>
                <a:lnTo>
                  <a:pt x="1117" y="100"/>
                </a:lnTo>
                <a:lnTo>
                  <a:pt x="1645" y="212"/>
                </a:lnTo>
                <a:lnTo>
                  <a:pt x="1749" y="116"/>
                </a:lnTo>
                <a:lnTo>
                  <a:pt x="2285" y="220"/>
                </a:lnTo>
                <a:lnTo>
                  <a:pt x="2397" y="124"/>
                </a:lnTo>
                <a:lnTo>
                  <a:pt x="2917" y="228"/>
                </a:lnTo>
                <a:lnTo>
                  <a:pt x="3021" y="140"/>
                </a:lnTo>
                <a:lnTo>
                  <a:pt x="3565" y="260"/>
                </a:lnTo>
                <a:lnTo>
                  <a:pt x="3653" y="180"/>
                </a:lnTo>
                <a:lnTo>
                  <a:pt x="4197" y="308"/>
                </a:lnTo>
                <a:lnTo>
                  <a:pt x="4293" y="204"/>
                </a:lnTo>
                <a:lnTo>
                  <a:pt x="4829" y="332"/>
                </a:lnTo>
                <a:lnTo>
                  <a:pt x="4925" y="220"/>
                </a:lnTo>
                <a:lnTo>
                  <a:pt x="5469" y="340"/>
                </a:lnTo>
                <a:lnTo>
                  <a:pt x="5565" y="236"/>
                </a:lnTo>
                <a:lnTo>
                  <a:pt x="6101" y="348"/>
                </a:lnTo>
                <a:lnTo>
                  <a:pt x="6205" y="228"/>
                </a:lnTo>
                <a:lnTo>
                  <a:pt x="6725" y="332"/>
                </a:lnTo>
                <a:lnTo>
                  <a:pt x="6829" y="228"/>
                </a:lnTo>
                <a:lnTo>
                  <a:pt x="7373" y="340"/>
                </a:lnTo>
                <a:lnTo>
                  <a:pt x="7469" y="220"/>
                </a:lnTo>
                <a:lnTo>
                  <a:pt x="7997" y="332"/>
                </a:lnTo>
                <a:lnTo>
                  <a:pt x="8101" y="228"/>
                </a:lnTo>
                <a:lnTo>
                  <a:pt x="8645" y="356"/>
                </a:lnTo>
              </a:path>
            </a:pathLst>
          </a:custGeom>
          <a:noFill/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576360" y="7439040"/>
            <a:ext cx="13723920" cy="565200"/>
          </a:xfrm>
          <a:custGeom>
            <a:avLst/>
            <a:gdLst/>
            <a:ahLst/>
            <a:rect l="l" t="t" r="r" b="b"/>
            <a:pathLst>
              <a:path w="8645" h="356">
                <a:moveTo>
                  <a:pt x="0" y="0"/>
                </a:moveTo>
                <a:lnTo>
                  <a:pt x="997" y="196"/>
                </a:lnTo>
                <a:lnTo>
                  <a:pt x="1117" y="100"/>
                </a:lnTo>
                <a:lnTo>
                  <a:pt x="1645" y="212"/>
                </a:lnTo>
                <a:lnTo>
                  <a:pt x="1749" y="116"/>
                </a:lnTo>
                <a:lnTo>
                  <a:pt x="2285" y="220"/>
                </a:lnTo>
                <a:lnTo>
                  <a:pt x="2397" y="124"/>
                </a:lnTo>
                <a:lnTo>
                  <a:pt x="2917" y="228"/>
                </a:lnTo>
                <a:lnTo>
                  <a:pt x="3021" y="140"/>
                </a:lnTo>
                <a:lnTo>
                  <a:pt x="3565" y="260"/>
                </a:lnTo>
                <a:lnTo>
                  <a:pt x="3653" y="180"/>
                </a:lnTo>
                <a:lnTo>
                  <a:pt x="4197" y="308"/>
                </a:lnTo>
                <a:lnTo>
                  <a:pt x="4293" y="204"/>
                </a:lnTo>
                <a:lnTo>
                  <a:pt x="4829" y="332"/>
                </a:lnTo>
                <a:lnTo>
                  <a:pt x="4925" y="220"/>
                </a:lnTo>
                <a:lnTo>
                  <a:pt x="5469" y="340"/>
                </a:lnTo>
                <a:lnTo>
                  <a:pt x="5565" y="236"/>
                </a:lnTo>
                <a:lnTo>
                  <a:pt x="6101" y="348"/>
                </a:lnTo>
                <a:lnTo>
                  <a:pt x="6205" y="228"/>
                </a:lnTo>
                <a:lnTo>
                  <a:pt x="6725" y="332"/>
                </a:lnTo>
                <a:lnTo>
                  <a:pt x="6829" y="228"/>
                </a:lnTo>
                <a:lnTo>
                  <a:pt x="7373" y="340"/>
                </a:lnTo>
                <a:lnTo>
                  <a:pt x="7469" y="220"/>
                </a:lnTo>
                <a:lnTo>
                  <a:pt x="7997" y="332"/>
                </a:lnTo>
                <a:lnTo>
                  <a:pt x="8101" y="228"/>
                </a:lnTo>
                <a:lnTo>
                  <a:pt x="8645" y="356"/>
                </a:lnTo>
              </a:path>
            </a:pathLst>
          </a:custGeom>
          <a:noFill/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576360" y="3216240"/>
            <a:ext cx="13723920" cy="565200"/>
          </a:xfrm>
          <a:custGeom>
            <a:avLst/>
            <a:gdLst/>
            <a:ahLst/>
            <a:rect l="l" t="t" r="r" b="b"/>
            <a:pathLst>
              <a:path w="8645" h="356">
                <a:moveTo>
                  <a:pt x="0" y="0"/>
                </a:moveTo>
                <a:lnTo>
                  <a:pt x="997" y="196"/>
                </a:lnTo>
                <a:lnTo>
                  <a:pt x="1117" y="100"/>
                </a:lnTo>
                <a:lnTo>
                  <a:pt x="1645" y="212"/>
                </a:lnTo>
                <a:lnTo>
                  <a:pt x="1749" y="116"/>
                </a:lnTo>
                <a:lnTo>
                  <a:pt x="2285" y="220"/>
                </a:lnTo>
                <a:lnTo>
                  <a:pt x="2397" y="124"/>
                </a:lnTo>
                <a:lnTo>
                  <a:pt x="2917" y="228"/>
                </a:lnTo>
                <a:lnTo>
                  <a:pt x="3021" y="140"/>
                </a:lnTo>
                <a:lnTo>
                  <a:pt x="3565" y="260"/>
                </a:lnTo>
                <a:lnTo>
                  <a:pt x="3653" y="180"/>
                </a:lnTo>
                <a:lnTo>
                  <a:pt x="4197" y="308"/>
                </a:lnTo>
                <a:lnTo>
                  <a:pt x="4293" y="204"/>
                </a:lnTo>
                <a:lnTo>
                  <a:pt x="4829" y="332"/>
                </a:lnTo>
                <a:lnTo>
                  <a:pt x="4925" y="220"/>
                </a:lnTo>
                <a:lnTo>
                  <a:pt x="5469" y="340"/>
                </a:lnTo>
                <a:lnTo>
                  <a:pt x="5565" y="236"/>
                </a:lnTo>
                <a:lnTo>
                  <a:pt x="6101" y="348"/>
                </a:lnTo>
                <a:lnTo>
                  <a:pt x="6205" y="228"/>
                </a:lnTo>
                <a:lnTo>
                  <a:pt x="6725" y="332"/>
                </a:lnTo>
                <a:lnTo>
                  <a:pt x="6829" y="228"/>
                </a:lnTo>
                <a:lnTo>
                  <a:pt x="7373" y="340"/>
                </a:lnTo>
                <a:lnTo>
                  <a:pt x="7469" y="220"/>
                </a:lnTo>
                <a:lnTo>
                  <a:pt x="7997" y="332"/>
                </a:lnTo>
                <a:lnTo>
                  <a:pt x="8101" y="228"/>
                </a:lnTo>
                <a:lnTo>
                  <a:pt x="8645" y="356"/>
                </a:lnTo>
              </a:path>
            </a:pathLst>
          </a:custGeom>
          <a:noFill/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748800" y="1459080"/>
            <a:ext cx="70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メイリオ"/>
              </a:rPr>
              <a:t>プラン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メイリオ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748800" y="3475080"/>
            <a:ext cx="70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メイリオ"/>
              </a:rPr>
              <a:t>プラン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メイリオ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48800" y="5634000"/>
            <a:ext cx="70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メイリオ"/>
              </a:rPr>
              <a:t>プラン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メイリオ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748800" y="7723080"/>
            <a:ext cx="70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メイリオ"/>
              </a:rPr>
              <a:t>プラン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メイリオ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576360" y="4260960"/>
            <a:ext cx="13723920" cy="565200"/>
          </a:xfrm>
          <a:custGeom>
            <a:avLst/>
            <a:gdLst/>
            <a:ahLst/>
            <a:rect l="l" t="t" r="r" b="b"/>
            <a:pathLst>
              <a:path w="8645" h="356">
                <a:moveTo>
                  <a:pt x="0" y="0"/>
                </a:moveTo>
                <a:lnTo>
                  <a:pt x="997" y="196"/>
                </a:lnTo>
                <a:lnTo>
                  <a:pt x="1117" y="100"/>
                </a:lnTo>
                <a:lnTo>
                  <a:pt x="1645" y="212"/>
                </a:lnTo>
                <a:lnTo>
                  <a:pt x="1749" y="116"/>
                </a:lnTo>
                <a:lnTo>
                  <a:pt x="2285" y="220"/>
                </a:lnTo>
                <a:lnTo>
                  <a:pt x="2397" y="124"/>
                </a:lnTo>
                <a:lnTo>
                  <a:pt x="2917" y="228"/>
                </a:lnTo>
                <a:lnTo>
                  <a:pt x="3021" y="140"/>
                </a:lnTo>
                <a:lnTo>
                  <a:pt x="3565" y="260"/>
                </a:lnTo>
                <a:lnTo>
                  <a:pt x="3653" y="180"/>
                </a:lnTo>
                <a:lnTo>
                  <a:pt x="4197" y="308"/>
                </a:lnTo>
                <a:lnTo>
                  <a:pt x="4293" y="204"/>
                </a:lnTo>
                <a:lnTo>
                  <a:pt x="4829" y="332"/>
                </a:lnTo>
                <a:lnTo>
                  <a:pt x="4925" y="220"/>
                </a:lnTo>
                <a:lnTo>
                  <a:pt x="5469" y="340"/>
                </a:lnTo>
                <a:lnTo>
                  <a:pt x="5565" y="236"/>
                </a:lnTo>
                <a:lnTo>
                  <a:pt x="6101" y="348"/>
                </a:lnTo>
                <a:lnTo>
                  <a:pt x="6205" y="228"/>
                </a:lnTo>
                <a:lnTo>
                  <a:pt x="6725" y="332"/>
                </a:lnTo>
                <a:lnTo>
                  <a:pt x="6829" y="228"/>
                </a:lnTo>
                <a:lnTo>
                  <a:pt x="7373" y="340"/>
                </a:lnTo>
                <a:lnTo>
                  <a:pt x="7469" y="220"/>
                </a:lnTo>
                <a:lnTo>
                  <a:pt x="7997" y="332"/>
                </a:lnTo>
                <a:lnTo>
                  <a:pt x="8101" y="228"/>
                </a:lnTo>
                <a:lnTo>
                  <a:pt x="8645" y="356"/>
                </a:lnTo>
              </a:path>
            </a:pathLst>
          </a:custGeom>
          <a:noFill/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576360" y="2149560"/>
            <a:ext cx="13723920" cy="565200"/>
          </a:xfrm>
          <a:custGeom>
            <a:avLst/>
            <a:gdLst/>
            <a:ahLst/>
            <a:rect l="l" t="t" r="r" b="b"/>
            <a:pathLst>
              <a:path w="8645" h="356">
                <a:moveTo>
                  <a:pt x="0" y="0"/>
                </a:moveTo>
                <a:lnTo>
                  <a:pt x="997" y="196"/>
                </a:lnTo>
                <a:lnTo>
                  <a:pt x="1117" y="100"/>
                </a:lnTo>
                <a:lnTo>
                  <a:pt x="1645" y="212"/>
                </a:lnTo>
                <a:lnTo>
                  <a:pt x="1749" y="116"/>
                </a:lnTo>
                <a:lnTo>
                  <a:pt x="2285" y="220"/>
                </a:lnTo>
                <a:lnTo>
                  <a:pt x="2397" y="124"/>
                </a:lnTo>
                <a:lnTo>
                  <a:pt x="2917" y="228"/>
                </a:lnTo>
                <a:lnTo>
                  <a:pt x="3021" y="140"/>
                </a:lnTo>
                <a:lnTo>
                  <a:pt x="3565" y="260"/>
                </a:lnTo>
                <a:lnTo>
                  <a:pt x="3653" y="180"/>
                </a:lnTo>
                <a:lnTo>
                  <a:pt x="4197" y="308"/>
                </a:lnTo>
                <a:lnTo>
                  <a:pt x="4293" y="204"/>
                </a:lnTo>
                <a:lnTo>
                  <a:pt x="4829" y="332"/>
                </a:lnTo>
                <a:lnTo>
                  <a:pt x="4925" y="220"/>
                </a:lnTo>
                <a:lnTo>
                  <a:pt x="5469" y="340"/>
                </a:lnTo>
                <a:lnTo>
                  <a:pt x="5565" y="236"/>
                </a:lnTo>
                <a:lnTo>
                  <a:pt x="6101" y="348"/>
                </a:lnTo>
                <a:lnTo>
                  <a:pt x="6205" y="228"/>
                </a:lnTo>
                <a:lnTo>
                  <a:pt x="6725" y="332"/>
                </a:lnTo>
                <a:lnTo>
                  <a:pt x="6829" y="228"/>
                </a:lnTo>
                <a:lnTo>
                  <a:pt x="7373" y="340"/>
                </a:lnTo>
                <a:lnTo>
                  <a:pt x="7469" y="220"/>
                </a:lnTo>
                <a:lnTo>
                  <a:pt x="7997" y="332"/>
                </a:lnTo>
                <a:lnTo>
                  <a:pt x="8101" y="228"/>
                </a:lnTo>
                <a:lnTo>
                  <a:pt x="8645" y="356"/>
                </a:lnTo>
              </a:path>
            </a:pathLst>
          </a:custGeom>
          <a:noFill/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576360" y="8507520"/>
            <a:ext cx="13723920" cy="565200"/>
          </a:xfrm>
          <a:custGeom>
            <a:avLst/>
            <a:gdLst/>
            <a:ahLst/>
            <a:rect l="l" t="t" r="r" b="b"/>
            <a:pathLst>
              <a:path w="8645" h="356">
                <a:moveTo>
                  <a:pt x="0" y="0"/>
                </a:moveTo>
                <a:lnTo>
                  <a:pt x="997" y="196"/>
                </a:lnTo>
                <a:lnTo>
                  <a:pt x="1117" y="100"/>
                </a:lnTo>
                <a:lnTo>
                  <a:pt x="1645" y="212"/>
                </a:lnTo>
                <a:lnTo>
                  <a:pt x="1749" y="116"/>
                </a:lnTo>
                <a:lnTo>
                  <a:pt x="2285" y="220"/>
                </a:lnTo>
                <a:lnTo>
                  <a:pt x="2397" y="124"/>
                </a:lnTo>
                <a:lnTo>
                  <a:pt x="2917" y="228"/>
                </a:lnTo>
                <a:lnTo>
                  <a:pt x="3021" y="140"/>
                </a:lnTo>
                <a:lnTo>
                  <a:pt x="3565" y="260"/>
                </a:lnTo>
                <a:lnTo>
                  <a:pt x="3653" y="180"/>
                </a:lnTo>
                <a:lnTo>
                  <a:pt x="4197" y="308"/>
                </a:lnTo>
                <a:lnTo>
                  <a:pt x="4293" y="204"/>
                </a:lnTo>
                <a:lnTo>
                  <a:pt x="4829" y="332"/>
                </a:lnTo>
                <a:lnTo>
                  <a:pt x="4925" y="220"/>
                </a:lnTo>
                <a:lnTo>
                  <a:pt x="5469" y="340"/>
                </a:lnTo>
                <a:lnTo>
                  <a:pt x="5565" y="236"/>
                </a:lnTo>
                <a:lnTo>
                  <a:pt x="6101" y="348"/>
                </a:lnTo>
                <a:lnTo>
                  <a:pt x="6205" y="228"/>
                </a:lnTo>
                <a:lnTo>
                  <a:pt x="6725" y="332"/>
                </a:lnTo>
                <a:lnTo>
                  <a:pt x="6829" y="228"/>
                </a:lnTo>
                <a:lnTo>
                  <a:pt x="7373" y="340"/>
                </a:lnTo>
                <a:lnTo>
                  <a:pt x="7469" y="220"/>
                </a:lnTo>
                <a:lnTo>
                  <a:pt x="7997" y="332"/>
                </a:lnTo>
                <a:lnTo>
                  <a:pt x="8101" y="228"/>
                </a:lnTo>
                <a:lnTo>
                  <a:pt x="8645" y="356"/>
                </a:lnTo>
              </a:path>
            </a:pathLst>
          </a:custGeom>
          <a:noFill/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576360" y="6396120"/>
            <a:ext cx="13723920" cy="565200"/>
          </a:xfrm>
          <a:custGeom>
            <a:avLst/>
            <a:gdLst/>
            <a:ahLst/>
            <a:rect l="l" t="t" r="r" b="b"/>
            <a:pathLst>
              <a:path w="8645" h="356">
                <a:moveTo>
                  <a:pt x="0" y="0"/>
                </a:moveTo>
                <a:lnTo>
                  <a:pt x="997" y="196"/>
                </a:lnTo>
                <a:lnTo>
                  <a:pt x="1117" y="100"/>
                </a:lnTo>
                <a:lnTo>
                  <a:pt x="1645" y="212"/>
                </a:lnTo>
                <a:lnTo>
                  <a:pt x="1749" y="116"/>
                </a:lnTo>
                <a:lnTo>
                  <a:pt x="2285" y="220"/>
                </a:lnTo>
                <a:lnTo>
                  <a:pt x="2397" y="124"/>
                </a:lnTo>
                <a:lnTo>
                  <a:pt x="2917" y="228"/>
                </a:lnTo>
                <a:lnTo>
                  <a:pt x="3021" y="140"/>
                </a:lnTo>
                <a:lnTo>
                  <a:pt x="3565" y="260"/>
                </a:lnTo>
                <a:lnTo>
                  <a:pt x="3653" y="180"/>
                </a:lnTo>
                <a:lnTo>
                  <a:pt x="4197" y="308"/>
                </a:lnTo>
                <a:lnTo>
                  <a:pt x="4293" y="204"/>
                </a:lnTo>
                <a:lnTo>
                  <a:pt x="4829" y="332"/>
                </a:lnTo>
                <a:lnTo>
                  <a:pt x="4925" y="220"/>
                </a:lnTo>
                <a:lnTo>
                  <a:pt x="5469" y="340"/>
                </a:lnTo>
                <a:lnTo>
                  <a:pt x="5565" y="236"/>
                </a:lnTo>
                <a:lnTo>
                  <a:pt x="6101" y="348"/>
                </a:lnTo>
                <a:lnTo>
                  <a:pt x="6205" y="228"/>
                </a:lnTo>
                <a:lnTo>
                  <a:pt x="6725" y="332"/>
                </a:lnTo>
                <a:lnTo>
                  <a:pt x="6829" y="228"/>
                </a:lnTo>
                <a:lnTo>
                  <a:pt x="7373" y="340"/>
                </a:lnTo>
                <a:lnTo>
                  <a:pt x="7469" y="220"/>
                </a:lnTo>
                <a:lnTo>
                  <a:pt x="7997" y="332"/>
                </a:lnTo>
                <a:lnTo>
                  <a:pt x="8101" y="228"/>
                </a:lnTo>
                <a:lnTo>
                  <a:pt x="8645" y="356"/>
                </a:lnTo>
              </a:path>
            </a:pathLst>
          </a:custGeom>
          <a:noFill/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748800" y="2482920"/>
            <a:ext cx="70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メイリオ"/>
              </a:rPr>
              <a:t>プラン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メイリオ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748800" y="4498920"/>
            <a:ext cx="70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メイリオ"/>
              </a:rPr>
              <a:t>プラン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メイリオ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748800" y="6657840"/>
            <a:ext cx="70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メイリオ"/>
              </a:rPr>
              <a:t>プラン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メイリオ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748800" y="8747280"/>
            <a:ext cx="70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メイリオ"/>
              </a:rPr>
              <a:t>プラン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メイリオ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01:58:07Z</dcterms:created>
  <dc:creator>http://www.digipot.net</dc:creator>
  <dc:description/>
  <cp:keywords>スケジュール表 A3サイズ</cp:keywords>
  <dc:language>en-US</dc:language>
  <cp:lastModifiedBy/>
  <dcterms:modified xsi:type="dcterms:W3CDTF">2011-02-01T05:37:30Z</dcterms:modified>
  <cp:revision>5</cp:revision>
  <dc:subject>ppt043_A3スケジュール表2</dc:subject>
  <dc:title>ppt043_A3スケジュール表2</dc:title>
</cp:coreProperties>
</file>